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8A8-EE23-4CA6-82A3-4CB82EDF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09E-1988-47D5-BDFD-16FDB53B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B27-0300-4E02-A0CE-D7D1397D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F2E-8845-404D-B789-93AB0DF6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0DA-537F-40CB-BFF9-EB45A70F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513-F0FD-4961-8019-A421F658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0F7-8A06-4883-A852-01AB2FBE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8F4-1B56-4B5B-B59A-7537993B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AB7-01E5-4C71-954F-B4B4B407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0D88-41F3-4593-931A-205383CC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5E6-9D48-4E34-81BF-B79B805E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081-1889-499C-B0C7-B0AB6DAA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FB37-3977-47F7-9A47-692AAFD64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9810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Lucida Handwriting"/>
              </a:rPr>
              <a:t>Protein Sequence Alig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D78D-9834-47A9-96F9-D192B60DA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Lucida Calligraphy"/>
              </a:rPr>
              <a:t>July 2002- DP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96080" y="5410080"/>
            <a:ext cx="1079640" cy="1219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152280"/>
            <a:ext cx="8610480" cy="6172200"/>
          </a:xfrm>
          <a:prstGeom prst="rect">
            <a:avLst/>
          </a:prstGeom>
          <a:noFill/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486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David Philip Ju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304920" y="695160"/>
            <a:ext cx="8762760" cy="6096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0" y="5419800"/>
            <a:ext cx="5334120" cy="304560"/>
            <a:chOff x="0" y="5419800"/>
            <a:chExt cx="5334120" cy="304560"/>
          </a:xfrm>
        </p:grpSpPr>
        <p:sp>
          <p:nvSpPr>
            <p:cNvPr id="835" name=""/>
            <p:cNvSpPr/>
            <p:nvPr/>
          </p:nvSpPr>
          <p:spPr>
            <a:xfrm>
              <a:off x="0" y="5419800"/>
              <a:ext cx="304920" cy="304560"/>
            </a:xfrm>
            <a:prstGeom prst="ellipse">
              <a:avLst/>
            </a:prstGeom>
            <a:solidFill>
              <a:srgbClr val="96969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4920" y="5571720"/>
              <a:ext cx="5029200" cy="0"/>
            </a:xfrm>
            <a:prstGeom prst="line">
              <a:avLst/>
            </a:prstGeom>
            <a:ln w="3175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04920" y="771480"/>
            <a:ext cx="8762760" cy="6019920"/>
            <a:chOff x="304920" y="771480"/>
            <a:chExt cx="8762760" cy="6019920"/>
          </a:xfrm>
        </p:grpSpPr>
        <p:sp>
          <p:nvSpPr>
            <p:cNvPr id="838" name=""/>
            <p:cNvSpPr/>
            <p:nvPr/>
          </p:nvSpPr>
          <p:spPr>
            <a:xfrm>
              <a:off x="52992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75664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68332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2552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9150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99412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06744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5156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8356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198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6042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9884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37252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306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464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76236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37824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6100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4572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07316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8414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8904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4920" y="10000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4920" y="12286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04920" y="15336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4920" y="17622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04920" y="20797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04920" y="22957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4920" y="26002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28288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920" y="30574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4920" y="33624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4920" y="35910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4920" y="38959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04920" y="41245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4920" y="43531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04920" y="46576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4920" y="48862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4920" y="51912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4920" y="54198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4920" y="56484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920" y="59533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4920" y="61819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04920" y="64864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410080" y="466560"/>
            <a:ext cx="304920" cy="4876560"/>
            <a:chOff x="5410080" y="466560"/>
            <a:chExt cx="304920" cy="4876560"/>
          </a:xfrm>
        </p:grpSpPr>
        <p:sp>
          <p:nvSpPr>
            <p:cNvPr id="883" name=""/>
            <p:cNvSpPr/>
            <p:nvPr/>
          </p:nvSpPr>
          <p:spPr>
            <a:xfrm>
              <a:off x="5410080" y="466560"/>
              <a:ext cx="304920" cy="304560"/>
            </a:xfrm>
            <a:prstGeom prst="ellipse">
              <a:avLst/>
            </a:prstGeom>
            <a:solidFill>
              <a:srgbClr val="96969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562720" y="771120"/>
              <a:ext cx="0" cy="4572000"/>
            </a:xfrm>
            <a:prstGeom prst="line">
              <a:avLst/>
            </a:prstGeom>
            <a:ln w="3175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5334120" y="5343480"/>
            <a:ext cx="457200" cy="38088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752080" y="466560"/>
            <a:ext cx="275040" cy="6262560"/>
            <a:chOff x="5752080" y="466560"/>
            <a:chExt cx="275040" cy="6262560"/>
          </a:xfrm>
        </p:grpSpPr>
        <p:sp>
          <p:nvSpPr>
            <p:cNvPr id="887" name=""/>
            <p:cNvSpPr/>
            <p:nvPr/>
          </p:nvSpPr>
          <p:spPr>
            <a:xfrm>
              <a:off x="58669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88240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88240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75208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75208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5208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8240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5208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75208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88240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75208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75208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75208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75208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75208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88240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88240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88240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75208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75208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520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75208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8240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8824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138000" y="466560"/>
            <a:ext cx="275040" cy="6262560"/>
            <a:chOff x="6138000" y="466560"/>
            <a:chExt cx="275040" cy="6262560"/>
          </a:xfrm>
        </p:grpSpPr>
        <p:sp>
          <p:nvSpPr>
            <p:cNvPr id="912" name=""/>
            <p:cNvSpPr/>
            <p:nvPr/>
          </p:nvSpPr>
          <p:spPr>
            <a:xfrm>
              <a:off x="625284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26832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26832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6832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6832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268320" y="178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13800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26832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68320" y="255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13800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13800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3800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26832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3800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3800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26832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26832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26832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3800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3800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3800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26832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26832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26832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6523560" y="466560"/>
            <a:ext cx="275040" cy="6262560"/>
            <a:chOff x="6523560" y="466560"/>
            <a:chExt cx="275040" cy="6262560"/>
          </a:xfrm>
        </p:grpSpPr>
        <p:sp>
          <p:nvSpPr>
            <p:cNvPr id="937" name=""/>
            <p:cNvSpPr/>
            <p:nvPr/>
          </p:nvSpPr>
          <p:spPr>
            <a:xfrm>
              <a:off x="66384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5388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52356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5388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5388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2356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52356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5388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53880" y="255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52356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65388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356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65388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52356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2356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65388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5388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65388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52356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52356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65388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65388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2356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538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909480" y="466560"/>
            <a:ext cx="275040" cy="6262560"/>
            <a:chOff x="6909480" y="466560"/>
            <a:chExt cx="275040" cy="6262560"/>
          </a:xfrm>
        </p:grpSpPr>
        <p:sp>
          <p:nvSpPr>
            <p:cNvPr id="962" name=""/>
            <p:cNvSpPr/>
            <p:nvPr/>
          </p:nvSpPr>
          <p:spPr>
            <a:xfrm>
              <a:off x="70243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90948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3980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0948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90948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90948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0948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90948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90948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90948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90948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90948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90948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90948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03980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90948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90948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90948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90948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039800" y="5416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9094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90948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90948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0398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7295040" y="466560"/>
            <a:ext cx="275040" cy="6262560"/>
            <a:chOff x="7295040" y="466560"/>
            <a:chExt cx="275040" cy="6262560"/>
          </a:xfrm>
        </p:grpSpPr>
        <p:sp>
          <p:nvSpPr>
            <p:cNvPr id="987" name=""/>
            <p:cNvSpPr/>
            <p:nvPr/>
          </p:nvSpPr>
          <p:spPr>
            <a:xfrm>
              <a:off x="740988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29504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29504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9504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9504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425360" y="178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9504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9504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29504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42536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9504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29504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29504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42536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42536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29504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29504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29504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425360" y="5155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29504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29504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9504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9504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42536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7680960" y="466560"/>
            <a:ext cx="275040" cy="6262560"/>
            <a:chOff x="7680960" y="466560"/>
            <a:chExt cx="275040" cy="6262560"/>
          </a:xfrm>
        </p:grpSpPr>
        <p:sp>
          <p:nvSpPr>
            <p:cNvPr id="1012" name=""/>
            <p:cNvSpPr/>
            <p:nvPr/>
          </p:nvSpPr>
          <p:spPr>
            <a:xfrm>
              <a:off x="77961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81164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68096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8096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68096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8096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68096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68096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68096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68096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81164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81164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68096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81164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8096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68096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68096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1164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68096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68096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81164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68096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68096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8116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8066520" y="466560"/>
            <a:ext cx="275040" cy="6262560"/>
            <a:chOff x="8066520" y="466560"/>
            <a:chExt cx="275040" cy="6262560"/>
          </a:xfrm>
        </p:grpSpPr>
        <p:sp>
          <p:nvSpPr>
            <p:cNvPr id="1037" name=""/>
            <p:cNvSpPr/>
            <p:nvPr/>
          </p:nvSpPr>
          <p:spPr>
            <a:xfrm>
              <a:off x="81817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19720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6652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19720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19720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06652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19720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19720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197200" y="255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19720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06652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6652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19720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06652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06652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06652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19720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19720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06652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06652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06652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19720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19720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1972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8452440" y="466560"/>
            <a:ext cx="275040" cy="6262560"/>
            <a:chOff x="8452440" y="466560"/>
            <a:chExt cx="275040" cy="6262560"/>
          </a:xfrm>
        </p:grpSpPr>
        <p:sp>
          <p:nvSpPr>
            <p:cNvPr id="1062" name=""/>
            <p:cNvSpPr/>
            <p:nvPr/>
          </p:nvSpPr>
          <p:spPr>
            <a:xfrm>
              <a:off x="856764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58312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58312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58312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58312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45244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58312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58312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45244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58312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45244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45244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58312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45244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45244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58312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58312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45244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45244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45244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45244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58312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58312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58312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8846640" y="466560"/>
            <a:ext cx="153360" cy="6262560"/>
            <a:chOff x="8846640" y="466560"/>
            <a:chExt cx="153360" cy="6262560"/>
          </a:xfrm>
        </p:grpSpPr>
        <p:sp>
          <p:nvSpPr>
            <p:cNvPr id="1087" name=""/>
            <p:cNvSpPr/>
            <p:nvPr/>
          </p:nvSpPr>
          <p:spPr>
            <a:xfrm>
              <a:off x="884664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86212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86212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86212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86212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862120" y="178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86212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86212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862120" y="255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86212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86212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86212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86212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86212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86212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86212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86212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86212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862120" y="5155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862120" y="5416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86212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86212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86212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86212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8040" y="727200"/>
            <a:ext cx="153000" cy="6018480"/>
            <a:chOff x="68040" y="727200"/>
            <a:chExt cx="153000" cy="6018480"/>
          </a:xfrm>
        </p:grpSpPr>
        <p:sp>
          <p:nvSpPr>
            <p:cNvPr id="1112" name=""/>
            <p:cNvSpPr/>
            <p:nvPr/>
          </p:nvSpPr>
          <p:spPr>
            <a:xfrm>
              <a:off x="68040" y="7272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040" y="9874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8040" y="12463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8040" y="15066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8040" y="17668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8040" y="20257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8040" y="22860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8040" y="25448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8040" y="28051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8040" y="30654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8040" y="33242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8040" y="35845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8040" y="38433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040" y="41036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040" y="43639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8040" y="46227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8040" y="48830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8040" y="51418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8040" y="56624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8040" y="59212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8040" y="6181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040" y="64404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8040" y="54021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349920" y="466560"/>
            <a:ext cx="275040" cy="6262560"/>
            <a:chOff x="349920" y="466560"/>
            <a:chExt cx="275040" cy="6262560"/>
          </a:xfrm>
        </p:grpSpPr>
        <p:sp>
          <p:nvSpPr>
            <p:cNvPr id="1136" name=""/>
            <p:cNvSpPr/>
            <p:nvPr/>
          </p:nvSpPr>
          <p:spPr>
            <a:xfrm>
              <a:off x="4651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8060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4992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8060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8060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4992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8060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8060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060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49920" y="282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992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4992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49920" y="3605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4992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4992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80600" y="4381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8060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8060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4992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8060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8060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060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806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4992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121400" y="466560"/>
            <a:ext cx="275040" cy="6262560"/>
            <a:chOff x="1121400" y="466560"/>
            <a:chExt cx="275040" cy="6262560"/>
          </a:xfrm>
        </p:grpSpPr>
        <p:sp>
          <p:nvSpPr>
            <p:cNvPr id="1161" name=""/>
            <p:cNvSpPr/>
            <p:nvPr/>
          </p:nvSpPr>
          <p:spPr>
            <a:xfrm>
              <a:off x="12366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25208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252080" y="10141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25208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5208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2140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25208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25208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25208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25208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2140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12140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25208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12140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12140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12140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25208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25208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12140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12140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25208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25208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2520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12140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1506960" y="466560"/>
            <a:ext cx="275040" cy="6262560"/>
            <a:chOff x="1506960" y="466560"/>
            <a:chExt cx="275040" cy="6262560"/>
          </a:xfrm>
        </p:grpSpPr>
        <p:sp>
          <p:nvSpPr>
            <p:cNvPr id="1186" name=""/>
            <p:cNvSpPr/>
            <p:nvPr/>
          </p:nvSpPr>
          <p:spPr>
            <a:xfrm>
              <a:off x="16221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63764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50696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63764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3764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50696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63764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3764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3764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3764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50696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50696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63764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50696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50696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50696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63764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63764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50696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50696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3764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63764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6376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50696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1892880" y="466560"/>
            <a:ext cx="275040" cy="6262560"/>
            <a:chOff x="1892880" y="466560"/>
            <a:chExt cx="275040" cy="6262560"/>
          </a:xfrm>
        </p:grpSpPr>
        <p:sp>
          <p:nvSpPr>
            <p:cNvPr id="1211" name=""/>
            <p:cNvSpPr/>
            <p:nvPr/>
          </p:nvSpPr>
          <p:spPr>
            <a:xfrm>
              <a:off x="195228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892880" y="755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89288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892880" y="1272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892880" y="1531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89288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892880" y="205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892880" y="2309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892880" y="2568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892880" y="282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89288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89288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892880" y="3605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89288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89288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89288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96164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892880" y="489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89288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8928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89288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892880" y="6194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9616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961640" y="54180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2278800" y="466560"/>
            <a:ext cx="275040" cy="6262560"/>
            <a:chOff x="2278800" y="466560"/>
            <a:chExt cx="275040" cy="6262560"/>
          </a:xfrm>
        </p:grpSpPr>
        <p:sp>
          <p:nvSpPr>
            <p:cNvPr id="1236" name=""/>
            <p:cNvSpPr/>
            <p:nvPr/>
          </p:nvSpPr>
          <p:spPr>
            <a:xfrm>
              <a:off x="239364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40912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09120" y="10141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40912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0912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27880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0912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40912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78800" y="2568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40912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27880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27880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40912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27880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27880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409120" y="4381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278800" y="464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278800" y="489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27880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27880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40912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40912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0912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27880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2664360" y="466560"/>
            <a:ext cx="275040" cy="6262560"/>
            <a:chOff x="2664360" y="466560"/>
            <a:chExt cx="275040" cy="6262560"/>
          </a:xfrm>
        </p:grpSpPr>
        <p:sp>
          <p:nvSpPr>
            <p:cNvPr id="1261" name=""/>
            <p:cNvSpPr/>
            <p:nvPr/>
          </p:nvSpPr>
          <p:spPr>
            <a:xfrm>
              <a:off x="27792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79468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66436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79468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79468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66436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79468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79468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79468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9468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6436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66436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79468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6436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66436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66436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79468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79468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66436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66436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79468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79468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7946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66436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3049920" y="466560"/>
            <a:ext cx="275040" cy="6262560"/>
            <a:chOff x="3049920" y="466560"/>
            <a:chExt cx="275040" cy="6262560"/>
          </a:xfrm>
        </p:grpSpPr>
        <p:sp>
          <p:nvSpPr>
            <p:cNvPr id="1286" name=""/>
            <p:cNvSpPr/>
            <p:nvPr/>
          </p:nvSpPr>
          <p:spPr>
            <a:xfrm>
              <a:off x="31647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18024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4992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18024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18024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04992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049920" y="205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18024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18024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049920" y="282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04992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04992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049920" y="3605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04992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04992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04992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18024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18024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04992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04992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18024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049920" y="6194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1802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04992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3435840" y="466560"/>
            <a:ext cx="275040" cy="6262560"/>
            <a:chOff x="3435840" y="466560"/>
            <a:chExt cx="275040" cy="6262560"/>
          </a:xfrm>
        </p:grpSpPr>
        <p:sp>
          <p:nvSpPr>
            <p:cNvPr id="1311" name=""/>
            <p:cNvSpPr/>
            <p:nvPr/>
          </p:nvSpPr>
          <p:spPr>
            <a:xfrm>
              <a:off x="355068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43584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56616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56616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56616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43584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56616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56616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43584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56616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43584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43584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56616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43584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43584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56616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43584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43584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43584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43584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56616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56616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56616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566160" y="5416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3821760" y="466560"/>
            <a:ext cx="275040" cy="6262560"/>
            <a:chOff x="3821760" y="466560"/>
            <a:chExt cx="275040" cy="6262560"/>
          </a:xfrm>
        </p:grpSpPr>
        <p:sp>
          <p:nvSpPr>
            <p:cNvPr id="1336" name=""/>
            <p:cNvSpPr/>
            <p:nvPr/>
          </p:nvSpPr>
          <p:spPr>
            <a:xfrm>
              <a:off x="39366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82176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82176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82176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82176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2176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2176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82176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82176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82176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95208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2176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2176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95208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95208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82176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2176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95208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82176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5208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82176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2176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9520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2176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4207320" y="466560"/>
            <a:ext cx="275040" cy="6262560"/>
            <a:chOff x="4207320" y="466560"/>
            <a:chExt cx="275040" cy="6262560"/>
          </a:xfrm>
        </p:grpSpPr>
        <p:sp>
          <p:nvSpPr>
            <p:cNvPr id="1361" name=""/>
            <p:cNvSpPr/>
            <p:nvPr/>
          </p:nvSpPr>
          <p:spPr>
            <a:xfrm>
              <a:off x="43221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0732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20732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20732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20732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20732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20732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20732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20732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20732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33764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33764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33764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33764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33764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0732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20732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0732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20732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3764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20732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20732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3376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20732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4594680" y="466560"/>
            <a:ext cx="275040" cy="6262560"/>
            <a:chOff x="4594680" y="466560"/>
            <a:chExt cx="275040" cy="6262560"/>
          </a:xfrm>
        </p:grpSpPr>
        <p:sp>
          <p:nvSpPr>
            <p:cNvPr id="1386" name=""/>
            <p:cNvSpPr/>
            <p:nvPr/>
          </p:nvSpPr>
          <p:spPr>
            <a:xfrm>
              <a:off x="47095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59468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72500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72500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72500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9468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72500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72500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9468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72500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59468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59468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72500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72500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59468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59468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72500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72500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59468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946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72500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72500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7250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59468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4980600" y="466560"/>
            <a:ext cx="275040" cy="6262560"/>
            <a:chOff x="4980600" y="466560"/>
            <a:chExt cx="275040" cy="6262560"/>
          </a:xfrm>
        </p:grpSpPr>
        <p:sp>
          <p:nvSpPr>
            <p:cNvPr id="1411" name=""/>
            <p:cNvSpPr/>
            <p:nvPr/>
          </p:nvSpPr>
          <p:spPr>
            <a:xfrm>
              <a:off x="50958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98060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11128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98060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98060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98060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98060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98060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98060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98060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11128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11128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11128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11128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11128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98060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98060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98060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98060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11128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98060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98060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1112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98060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5366520" y="466560"/>
            <a:ext cx="275040" cy="6262560"/>
            <a:chOff x="5366520" y="466560"/>
            <a:chExt cx="275040" cy="6262560"/>
          </a:xfrm>
        </p:grpSpPr>
        <p:sp>
          <p:nvSpPr>
            <p:cNvPr id="1436" name=""/>
            <p:cNvSpPr/>
            <p:nvPr/>
          </p:nvSpPr>
          <p:spPr>
            <a:xfrm>
              <a:off x="536652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36652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36652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4968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4813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36652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652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36652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36652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36652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36652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6652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36652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36652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9684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49684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36652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49684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49684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36652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36652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36652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496840" y="5155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496840" y="5416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2930040" y="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990000"/>
                </a:solidFill>
                <a:uFillTx/>
                <a:latin typeface="Courier New"/>
              </a:rPr>
              <a:t>Dayhoff PAM 250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735480" y="466560"/>
            <a:ext cx="275040" cy="6262560"/>
            <a:chOff x="735480" y="466560"/>
            <a:chExt cx="275040" cy="6262560"/>
          </a:xfrm>
        </p:grpSpPr>
        <p:sp>
          <p:nvSpPr>
            <p:cNvPr id="1462" name=""/>
            <p:cNvSpPr/>
            <p:nvPr/>
          </p:nvSpPr>
          <p:spPr>
            <a:xfrm>
              <a:off x="85068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5480" y="755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66160" y="10141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6616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35480" y="1531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3548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6616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35480" y="2309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35480" y="2568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6616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3548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3548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6616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66160" y="3863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3548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66160" y="4381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6616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35480" y="489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866160" y="515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354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3548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6616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6616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3548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687600" y="3244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218200" y="83808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218200" y="258768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218200" y="462600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218200" y="287820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218200" y="113040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218200" y="171288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218200" y="491796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218200" y="550080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218200" y="200484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38080" y="228240"/>
            <a:ext cx="4572000" cy="3048120"/>
            <a:chOff x="838080" y="228240"/>
            <a:chExt cx="4572000" cy="3048120"/>
          </a:xfrm>
        </p:grpSpPr>
        <p:sp>
          <p:nvSpPr>
            <p:cNvPr id="1499" name=""/>
            <p:cNvSpPr/>
            <p:nvPr/>
          </p:nvSpPr>
          <p:spPr>
            <a:xfrm flipV="1">
              <a:off x="838080" y="228240"/>
              <a:ext cx="0" cy="3048120"/>
            </a:xfrm>
            <a:prstGeom prst="line">
              <a:avLst/>
            </a:prstGeom>
            <a:ln cap="rnd" w="414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838080" y="228600"/>
              <a:ext cx="4572000" cy="0"/>
            </a:xfrm>
            <a:prstGeom prst="line">
              <a:avLst/>
            </a:prstGeom>
            <a:ln cap="rnd" w="414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410080" y="304920"/>
              <a:ext cx="0" cy="457200"/>
            </a:xfrm>
            <a:prstGeom prst="line">
              <a:avLst/>
            </a:prstGeom>
            <a:ln cap="rnd" w="4140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2" name=""/>
          <p:cNvSpPr/>
          <p:nvPr/>
        </p:nvSpPr>
        <p:spPr>
          <a:xfrm>
            <a:off x="5218200" y="520848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218200" y="433548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218200" y="317016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218200" y="229536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218200" y="142236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220000" y="579132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602000" y="3244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1752480" y="457200"/>
            <a:ext cx="4572000" cy="2819520"/>
            <a:chOff x="1752480" y="457200"/>
            <a:chExt cx="4572000" cy="2819520"/>
          </a:xfrm>
        </p:grpSpPr>
        <p:sp>
          <p:nvSpPr>
            <p:cNvPr id="1510" name=""/>
            <p:cNvSpPr/>
            <p:nvPr/>
          </p:nvSpPr>
          <p:spPr>
            <a:xfrm flipV="1">
              <a:off x="1752480" y="457200"/>
              <a:ext cx="0" cy="2819520"/>
            </a:xfrm>
            <a:prstGeom prst="line">
              <a:avLst/>
            </a:prstGeom>
            <a:ln cap="rnd" w="414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1752480" y="457200"/>
              <a:ext cx="4572000" cy="0"/>
            </a:xfrm>
            <a:prstGeom prst="line">
              <a:avLst/>
            </a:prstGeom>
            <a:ln cap="rnd" w="414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324480" y="457200"/>
              <a:ext cx="0" cy="304920"/>
            </a:xfrm>
            <a:prstGeom prst="line">
              <a:avLst/>
            </a:prstGeom>
            <a:ln cap="rnd" w="4140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3" name=""/>
          <p:cNvSpPr/>
          <p:nvPr/>
        </p:nvSpPr>
        <p:spPr>
          <a:xfrm>
            <a:off x="6135840" y="83808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135840" y="258768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35840" y="404352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135840" y="462600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135840" y="287820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135840" y="113040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135840" y="171288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135840" y="491796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129360" y="5500800"/>
            <a:ext cx="34776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135840" y="200484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135840" y="520848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135840" y="433548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135840" y="317016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135840" y="229536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135840" y="142236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122880" y="5791320"/>
            <a:ext cx="35424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135840" y="346068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82440" y="1066680"/>
            <a:ext cx="9063360" cy="5479560"/>
            <a:chOff x="82440" y="1066680"/>
            <a:chExt cx="9063360" cy="5479560"/>
          </a:xfrm>
        </p:grpSpPr>
        <p:grpSp>
          <p:nvGrpSpPr>
            <p:cNvPr id="1531" name=""/>
            <p:cNvGrpSpPr/>
            <p:nvPr/>
          </p:nvGrpSpPr>
          <p:grpSpPr>
            <a:xfrm>
              <a:off x="82440" y="1066680"/>
              <a:ext cx="8991360" cy="5105520"/>
              <a:chOff x="82440" y="1066680"/>
              <a:chExt cx="8991360" cy="5105520"/>
            </a:xfrm>
          </p:grpSpPr>
          <p:grpSp>
            <p:nvGrpSpPr>
              <p:cNvPr id="1532" name=""/>
              <p:cNvGrpSpPr/>
              <p:nvPr/>
            </p:nvGrpSpPr>
            <p:grpSpPr>
              <a:xfrm>
                <a:off x="4654440" y="1143000"/>
                <a:ext cx="4419360" cy="4952880"/>
                <a:chOff x="4654440" y="1143000"/>
                <a:chExt cx="4419360" cy="495288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4654440" y="11430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4654440" y="14335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4654440" y="172548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4654440" y="20160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654440" y="23083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654440" y="259884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4654440" y="28908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654440" y="31813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4654440" y="347328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4654440" y="37638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4654440" y="40561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4654440" y="434664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4654440" y="46386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4654440" y="49291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4654440" y="522144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4654440" y="551196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4654440" y="58039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4654440" y="609588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1" name=""/>
              <p:cNvGrpSpPr/>
              <p:nvPr/>
            </p:nvGrpSpPr>
            <p:grpSpPr>
              <a:xfrm>
                <a:off x="82440" y="1066680"/>
                <a:ext cx="4572000" cy="5105520"/>
                <a:chOff x="82440" y="1066680"/>
                <a:chExt cx="4572000" cy="510552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82440" y="3619440"/>
                  <a:ext cx="4419720" cy="0"/>
                </a:xfrm>
                <a:prstGeom prst="line">
                  <a:avLst/>
                </a:prstGeom>
                <a:ln w="442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4425840" y="1066680"/>
                  <a:ext cx="228600" cy="5105520"/>
                </a:xfrm>
                <a:custGeom>
                  <a:avLst/>
                  <a:gdLst>
                    <a:gd name="textAreaLeft" fmla="*/ 146160 w 228600"/>
                    <a:gd name="textAreaRight" fmla="*/ 228960 w 228600"/>
                    <a:gd name="textAreaTop" fmla="*/ 132840 h 5105520"/>
                    <a:gd name="textAreaBottom" fmla="*/ 4972680 h 5105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31680">
                  <a:solidFill>
                    <a:srgbClr val="ff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4" name=""/>
            <p:cNvSpPr/>
            <p:nvPr/>
          </p:nvSpPr>
          <p:spPr>
            <a:xfrm>
              <a:off x="862560" y="3648240"/>
              <a:ext cx="31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Original prote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575960" y="6086520"/>
              <a:ext cx="45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ligned current protei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6" name=""/>
          <p:cNvSpPr/>
          <p:nvPr/>
        </p:nvSpPr>
        <p:spPr>
          <a:xfrm>
            <a:off x="6135840" y="375300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218200" y="404352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218200" y="3460680"/>
            <a:ext cx="333000" cy="398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urier Ne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218200" y="3753000"/>
            <a:ext cx="333000" cy="398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82440" y="1066680"/>
            <a:ext cx="9063360" cy="5479560"/>
            <a:chOff x="82440" y="1066680"/>
            <a:chExt cx="9063360" cy="5479560"/>
          </a:xfrm>
        </p:grpSpPr>
        <p:grpSp>
          <p:nvGrpSpPr>
            <p:cNvPr id="1561" name=""/>
            <p:cNvGrpSpPr/>
            <p:nvPr/>
          </p:nvGrpSpPr>
          <p:grpSpPr>
            <a:xfrm>
              <a:off x="82440" y="1066680"/>
              <a:ext cx="8991360" cy="5105520"/>
              <a:chOff x="82440" y="1066680"/>
              <a:chExt cx="8991360" cy="5105520"/>
            </a:xfrm>
          </p:grpSpPr>
          <p:grpSp>
            <p:nvGrpSpPr>
              <p:cNvPr id="1562" name=""/>
              <p:cNvGrpSpPr/>
              <p:nvPr/>
            </p:nvGrpSpPr>
            <p:grpSpPr>
              <a:xfrm>
                <a:off x="4654440" y="1143000"/>
                <a:ext cx="4419360" cy="4952880"/>
                <a:chOff x="4654440" y="1143000"/>
                <a:chExt cx="4419360" cy="4952880"/>
              </a:xfrm>
            </p:grpSpPr>
            <p:sp>
              <p:nvSpPr>
                <p:cNvPr id="1563" name=""/>
                <p:cNvSpPr/>
                <p:nvPr/>
              </p:nvSpPr>
              <p:spPr>
                <a:xfrm>
                  <a:off x="4654440" y="11430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4654440" y="14335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4654440" y="172548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4654440" y="20160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4654440" y="23083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4654440" y="259884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4654440" y="28908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4654440" y="31813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4654440" y="347328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4654440" y="37638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4654440" y="40561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4654440" y="434664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4654440" y="46386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4654440" y="49291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4654440" y="522144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4654440" y="551196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4654440" y="58039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4654440" y="609588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82440" y="1066680"/>
                <a:ext cx="4572000" cy="5105520"/>
                <a:chOff x="82440" y="1066680"/>
                <a:chExt cx="4572000" cy="510552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82440" y="3619440"/>
                  <a:ext cx="4419720" cy="0"/>
                </a:xfrm>
                <a:prstGeom prst="line">
                  <a:avLst/>
                </a:prstGeom>
                <a:ln w="442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4425840" y="1066680"/>
                  <a:ext cx="228600" cy="5105520"/>
                </a:xfrm>
                <a:custGeom>
                  <a:avLst/>
                  <a:gdLst>
                    <a:gd name="textAreaLeft" fmla="*/ 146160 w 228600"/>
                    <a:gd name="textAreaRight" fmla="*/ 228960 w 228600"/>
                    <a:gd name="textAreaTop" fmla="*/ 132840 h 5105520"/>
                    <a:gd name="textAreaBottom" fmla="*/ 4972680 h 5105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31680">
                  <a:solidFill>
                    <a:srgbClr val="ff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4" name=""/>
            <p:cNvSpPr/>
            <p:nvPr/>
          </p:nvSpPr>
          <p:spPr>
            <a:xfrm>
              <a:off x="862560" y="3648240"/>
              <a:ext cx="31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Original prote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575960" y="6086520"/>
              <a:ext cx="45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ligned current protei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47880" y="4114800"/>
            <a:ext cx="4295520" cy="368280"/>
            <a:chOff x="47880" y="4114800"/>
            <a:chExt cx="4295520" cy="368280"/>
          </a:xfrm>
        </p:grpSpPr>
        <p:sp>
          <p:nvSpPr>
            <p:cNvPr id="1587" name=""/>
            <p:cNvSpPr/>
            <p:nvPr/>
          </p:nvSpPr>
          <p:spPr>
            <a:xfrm>
              <a:off x="47880" y="4114800"/>
              <a:ext cx="429552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Courier New"/>
                </a:rPr>
                <a:t>The High F    Y score implie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523880" y="42832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9" name=""/>
          <p:cNvSpPr/>
          <p:nvPr/>
        </p:nvSpPr>
        <p:spPr>
          <a:xfrm>
            <a:off x="31680" y="5119560"/>
            <a:ext cx="4432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urier New"/>
              </a:rPr>
              <a:t>F -&gt; Y substitutions are com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035440" y="542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Courier New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1680" y="6370560"/>
            <a:ext cx="4432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urier New"/>
              </a:rPr>
              <a:t>Y -&gt; F substitutions are com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85880" y="4694400"/>
            <a:ext cx="292392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Where F is conser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85880" y="5943600"/>
            <a:ext cx="292392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Where Y is conser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7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2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7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2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7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2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7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2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7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2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77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2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7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7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7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2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7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2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7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2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7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2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7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2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7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/>
          <p:nvPr/>
        </p:nvSpPr>
        <p:spPr>
          <a:xfrm>
            <a:off x="304920" y="695160"/>
            <a:ext cx="8762760" cy="6096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7" name=""/>
          <p:cNvGrpSpPr/>
          <p:nvPr/>
        </p:nvGrpSpPr>
        <p:grpSpPr>
          <a:xfrm>
            <a:off x="6934320" y="466560"/>
            <a:ext cx="304560" cy="4638600"/>
            <a:chOff x="6934320" y="466560"/>
            <a:chExt cx="304560" cy="4638600"/>
          </a:xfrm>
        </p:grpSpPr>
        <p:sp>
          <p:nvSpPr>
            <p:cNvPr id="1598" name=""/>
            <p:cNvSpPr/>
            <p:nvPr/>
          </p:nvSpPr>
          <p:spPr>
            <a:xfrm>
              <a:off x="6934320" y="466560"/>
              <a:ext cx="304560" cy="289440"/>
            </a:xfrm>
            <a:prstGeom prst="ellipse">
              <a:avLst/>
            </a:prstGeom>
            <a:solidFill>
              <a:srgbClr val="96969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086600" y="756000"/>
              <a:ext cx="0" cy="4349160"/>
            </a:xfrm>
            <a:prstGeom prst="line">
              <a:avLst/>
            </a:prstGeom>
            <a:ln w="3175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0" name=""/>
          <p:cNvGrpSpPr/>
          <p:nvPr/>
        </p:nvGrpSpPr>
        <p:grpSpPr>
          <a:xfrm>
            <a:off x="0" y="5105520"/>
            <a:ext cx="6933960" cy="304560"/>
            <a:chOff x="0" y="5105520"/>
            <a:chExt cx="6933960" cy="304560"/>
          </a:xfrm>
        </p:grpSpPr>
        <p:sp>
          <p:nvSpPr>
            <p:cNvPr id="1601" name=""/>
            <p:cNvSpPr/>
            <p:nvPr/>
          </p:nvSpPr>
          <p:spPr>
            <a:xfrm>
              <a:off x="0" y="5105520"/>
              <a:ext cx="396360" cy="304560"/>
            </a:xfrm>
            <a:prstGeom prst="ellipse">
              <a:avLst/>
            </a:prstGeom>
            <a:solidFill>
              <a:srgbClr val="969696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96360" y="5257440"/>
              <a:ext cx="6537600" cy="0"/>
            </a:xfrm>
            <a:prstGeom prst="line">
              <a:avLst/>
            </a:prstGeom>
            <a:ln w="3175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3" name=""/>
          <p:cNvGrpSpPr/>
          <p:nvPr/>
        </p:nvGrpSpPr>
        <p:grpSpPr>
          <a:xfrm>
            <a:off x="304920" y="771480"/>
            <a:ext cx="8762760" cy="6019920"/>
            <a:chOff x="304920" y="771480"/>
            <a:chExt cx="8762760" cy="6019920"/>
          </a:xfrm>
        </p:grpSpPr>
        <p:sp>
          <p:nvSpPr>
            <p:cNvPr id="1604" name=""/>
            <p:cNvSpPr/>
            <p:nvPr/>
          </p:nvSpPr>
          <p:spPr>
            <a:xfrm>
              <a:off x="52992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75664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68332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22552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9150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99412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6744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45156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8356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198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6042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9884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37252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5306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1464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76236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37824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6100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4572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07316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8414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8904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04920" y="10000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04920" y="12286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04920" y="15336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04920" y="17622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04920" y="20797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920" y="22957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04920" y="26002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04920" y="28288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04920" y="30574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4920" y="33624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04920" y="35910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04920" y="38959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4920" y="41245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04920" y="43531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04920" y="46576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04920" y="48862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04920" y="51912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04920" y="54198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04920" y="56484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04920" y="59533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04920" y="61819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04920" y="64864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8" name=""/>
          <p:cNvSpPr/>
          <p:nvPr/>
        </p:nvSpPr>
        <p:spPr>
          <a:xfrm>
            <a:off x="6858000" y="5114880"/>
            <a:ext cx="457200" cy="38088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5752080" y="466560"/>
            <a:ext cx="275040" cy="6262560"/>
            <a:chOff x="5752080" y="466560"/>
            <a:chExt cx="275040" cy="6262560"/>
          </a:xfrm>
        </p:grpSpPr>
        <p:sp>
          <p:nvSpPr>
            <p:cNvPr id="1650" name=""/>
            <p:cNvSpPr/>
            <p:nvPr/>
          </p:nvSpPr>
          <p:spPr>
            <a:xfrm>
              <a:off x="58669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88240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88240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75208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75208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75208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88240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75208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75208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8240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75208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75208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75208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75208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75208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88240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88240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8240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5208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75208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7520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75208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88240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8824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6138000" y="466560"/>
            <a:ext cx="275040" cy="6262560"/>
            <a:chOff x="6138000" y="466560"/>
            <a:chExt cx="275040" cy="6262560"/>
          </a:xfrm>
        </p:grpSpPr>
        <p:sp>
          <p:nvSpPr>
            <p:cNvPr id="1675" name=""/>
            <p:cNvSpPr/>
            <p:nvPr/>
          </p:nvSpPr>
          <p:spPr>
            <a:xfrm>
              <a:off x="625284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26832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6832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26832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26832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268320" y="178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13800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26832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268320" y="255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13800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13800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13800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26832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13800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13800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26832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26832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26832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13800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13800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13800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26832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26832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26832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6523560" y="466560"/>
            <a:ext cx="275040" cy="6262560"/>
            <a:chOff x="6523560" y="466560"/>
            <a:chExt cx="275040" cy="6262560"/>
          </a:xfrm>
        </p:grpSpPr>
        <p:sp>
          <p:nvSpPr>
            <p:cNvPr id="1700" name=""/>
            <p:cNvSpPr/>
            <p:nvPr/>
          </p:nvSpPr>
          <p:spPr>
            <a:xfrm>
              <a:off x="66384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65388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52356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65388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65388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52356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52356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65388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653880" y="255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52356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65388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52356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5388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52356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52356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65388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65388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65388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52356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52356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65388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65388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52356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6538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6909480" y="466560"/>
            <a:ext cx="275040" cy="6262560"/>
            <a:chOff x="6909480" y="466560"/>
            <a:chExt cx="275040" cy="6262560"/>
          </a:xfrm>
        </p:grpSpPr>
        <p:sp>
          <p:nvSpPr>
            <p:cNvPr id="1725" name=""/>
            <p:cNvSpPr/>
            <p:nvPr/>
          </p:nvSpPr>
          <p:spPr>
            <a:xfrm>
              <a:off x="70243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90948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03980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90948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90948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90948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90948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90948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90948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90948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90948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90948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90948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90948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03980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0948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90948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90948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90948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039800" y="5416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9094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0948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90948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0398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9" name=""/>
          <p:cNvGrpSpPr/>
          <p:nvPr/>
        </p:nvGrpSpPr>
        <p:grpSpPr>
          <a:xfrm>
            <a:off x="7295040" y="466560"/>
            <a:ext cx="275040" cy="6262560"/>
            <a:chOff x="7295040" y="466560"/>
            <a:chExt cx="275040" cy="6262560"/>
          </a:xfrm>
        </p:grpSpPr>
        <p:sp>
          <p:nvSpPr>
            <p:cNvPr id="1750" name=""/>
            <p:cNvSpPr/>
            <p:nvPr/>
          </p:nvSpPr>
          <p:spPr>
            <a:xfrm>
              <a:off x="740988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29504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29504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29504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29504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425360" y="178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29504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29504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29504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42536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29504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29504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29504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42536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42536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29504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29504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29504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425360" y="5155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29504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29504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29504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29504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42536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7680960" y="466560"/>
            <a:ext cx="275040" cy="6262560"/>
            <a:chOff x="7680960" y="466560"/>
            <a:chExt cx="275040" cy="6262560"/>
          </a:xfrm>
        </p:grpSpPr>
        <p:sp>
          <p:nvSpPr>
            <p:cNvPr id="1775" name=""/>
            <p:cNvSpPr/>
            <p:nvPr/>
          </p:nvSpPr>
          <p:spPr>
            <a:xfrm>
              <a:off x="77961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81164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68096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68096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68096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8096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8096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68096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68096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68096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81164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81164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68096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81164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68096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68096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68096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81164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68096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68096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81164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68096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68096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8116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8066520" y="466560"/>
            <a:ext cx="275040" cy="6262560"/>
            <a:chOff x="8066520" y="466560"/>
            <a:chExt cx="275040" cy="6262560"/>
          </a:xfrm>
        </p:grpSpPr>
        <p:sp>
          <p:nvSpPr>
            <p:cNvPr id="1800" name=""/>
            <p:cNvSpPr/>
            <p:nvPr/>
          </p:nvSpPr>
          <p:spPr>
            <a:xfrm>
              <a:off x="81817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19720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06652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19720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19720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806652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19720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19720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197200" y="255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819720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06652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806652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19720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06652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06652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806652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19720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19720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06652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806652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6652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19720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19720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1972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4" name=""/>
          <p:cNvGrpSpPr/>
          <p:nvPr/>
        </p:nvGrpSpPr>
        <p:grpSpPr>
          <a:xfrm>
            <a:off x="8452440" y="466560"/>
            <a:ext cx="275040" cy="6262560"/>
            <a:chOff x="8452440" y="466560"/>
            <a:chExt cx="275040" cy="6262560"/>
          </a:xfrm>
        </p:grpSpPr>
        <p:sp>
          <p:nvSpPr>
            <p:cNvPr id="1825" name=""/>
            <p:cNvSpPr/>
            <p:nvPr/>
          </p:nvSpPr>
          <p:spPr>
            <a:xfrm>
              <a:off x="856764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858312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858312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858312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858312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45244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58312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58312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45244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58312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45244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845244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58312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845244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45244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58312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58312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45244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45244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845244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845244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58312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858312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858312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8846640" y="466560"/>
            <a:ext cx="153360" cy="6262560"/>
            <a:chOff x="8846640" y="466560"/>
            <a:chExt cx="153360" cy="6262560"/>
          </a:xfrm>
        </p:grpSpPr>
        <p:sp>
          <p:nvSpPr>
            <p:cNvPr id="1850" name=""/>
            <p:cNvSpPr/>
            <p:nvPr/>
          </p:nvSpPr>
          <p:spPr>
            <a:xfrm>
              <a:off x="884664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886212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886212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886212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86212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862120" y="178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886212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86212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862120" y="255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886212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86212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86212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86212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886212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886212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86212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86212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886212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862120" y="5155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862120" y="5416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86212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86212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86212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86212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4" name=""/>
          <p:cNvGrpSpPr/>
          <p:nvPr/>
        </p:nvGrpSpPr>
        <p:grpSpPr>
          <a:xfrm>
            <a:off x="68040" y="727200"/>
            <a:ext cx="153000" cy="6018480"/>
            <a:chOff x="68040" y="727200"/>
            <a:chExt cx="153000" cy="6018480"/>
          </a:xfrm>
        </p:grpSpPr>
        <p:sp>
          <p:nvSpPr>
            <p:cNvPr id="1875" name=""/>
            <p:cNvSpPr/>
            <p:nvPr/>
          </p:nvSpPr>
          <p:spPr>
            <a:xfrm>
              <a:off x="68040" y="7272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8040" y="9874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8040" y="12463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8040" y="15066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8040" y="17668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8040" y="20257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8040" y="22860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8040" y="25448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8040" y="28051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8040" y="30654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040" y="33242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8040" y="35845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8040" y="38433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8040" y="41036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8040" y="43639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8040" y="46227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8040" y="48830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8040" y="51418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8040" y="56624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8040" y="59212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8040" y="6181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8040" y="64404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8040" y="54021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349920" y="466560"/>
            <a:ext cx="275040" cy="6262560"/>
            <a:chOff x="349920" y="466560"/>
            <a:chExt cx="275040" cy="6262560"/>
          </a:xfrm>
        </p:grpSpPr>
        <p:sp>
          <p:nvSpPr>
            <p:cNvPr id="1899" name=""/>
            <p:cNvSpPr/>
            <p:nvPr/>
          </p:nvSpPr>
          <p:spPr>
            <a:xfrm>
              <a:off x="4651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8060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992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8060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8060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4992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8060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8060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8060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49920" y="282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4992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4992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49920" y="3605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4992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4992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80600" y="4381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8060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8060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4992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8060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8060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8060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806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4992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1121400" y="466560"/>
            <a:ext cx="275040" cy="6262560"/>
            <a:chOff x="1121400" y="466560"/>
            <a:chExt cx="275040" cy="6262560"/>
          </a:xfrm>
        </p:grpSpPr>
        <p:sp>
          <p:nvSpPr>
            <p:cNvPr id="1924" name=""/>
            <p:cNvSpPr/>
            <p:nvPr/>
          </p:nvSpPr>
          <p:spPr>
            <a:xfrm>
              <a:off x="12366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25208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252080" y="10141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25208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25208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12140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25208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25208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25208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25208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12140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12140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25208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12140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2140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2140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25208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25208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12140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12140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25208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25208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2520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12140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1506960" y="466560"/>
            <a:ext cx="275040" cy="6262560"/>
            <a:chOff x="1506960" y="466560"/>
            <a:chExt cx="275040" cy="6262560"/>
          </a:xfrm>
        </p:grpSpPr>
        <p:sp>
          <p:nvSpPr>
            <p:cNvPr id="1949" name=""/>
            <p:cNvSpPr/>
            <p:nvPr/>
          </p:nvSpPr>
          <p:spPr>
            <a:xfrm>
              <a:off x="16221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63764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50696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63764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63764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50696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63764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63764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63764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63764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50696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50696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63764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50696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50696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50696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63764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63764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50696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50696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63764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63764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6376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50696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892880" y="466560"/>
            <a:ext cx="275040" cy="6262560"/>
            <a:chOff x="1892880" y="466560"/>
            <a:chExt cx="275040" cy="6262560"/>
          </a:xfrm>
        </p:grpSpPr>
        <p:sp>
          <p:nvSpPr>
            <p:cNvPr id="1974" name=""/>
            <p:cNvSpPr/>
            <p:nvPr/>
          </p:nvSpPr>
          <p:spPr>
            <a:xfrm>
              <a:off x="195228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892880" y="755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89288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892880" y="1272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892880" y="1531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89288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892880" y="205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892880" y="2309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892880" y="2568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892880" y="282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89288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89288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892880" y="3605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89288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89288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89288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96164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892880" y="489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89288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8928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89288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892880" y="6194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9616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961640" y="54180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8" name=""/>
          <p:cNvGrpSpPr/>
          <p:nvPr/>
        </p:nvGrpSpPr>
        <p:grpSpPr>
          <a:xfrm>
            <a:off x="2278800" y="466560"/>
            <a:ext cx="275040" cy="6262560"/>
            <a:chOff x="2278800" y="466560"/>
            <a:chExt cx="275040" cy="6262560"/>
          </a:xfrm>
        </p:grpSpPr>
        <p:sp>
          <p:nvSpPr>
            <p:cNvPr id="1999" name=""/>
            <p:cNvSpPr/>
            <p:nvPr/>
          </p:nvSpPr>
          <p:spPr>
            <a:xfrm>
              <a:off x="239364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40912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409120" y="10141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40912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40912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27880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40912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40912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278800" y="2568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40912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27880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27880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40912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27880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27880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409120" y="4381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278800" y="464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278800" y="489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27880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27880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40912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40912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40912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27880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2664360" y="466560"/>
            <a:ext cx="275040" cy="6262560"/>
            <a:chOff x="2664360" y="466560"/>
            <a:chExt cx="275040" cy="6262560"/>
          </a:xfrm>
        </p:grpSpPr>
        <p:sp>
          <p:nvSpPr>
            <p:cNvPr id="2024" name=""/>
            <p:cNvSpPr/>
            <p:nvPr/>
          </p:nvSpPr>
          <p:spPr>
            <a:xfrm>
              <a:off x="27792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79468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66436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79468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79468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66436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79468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79468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79468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79468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66436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66436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79468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66436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66436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66436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79468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79468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66436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66436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79468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79468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7946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66436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3049920" y="466560"/>
            <a:ext cx="275040" cy="6262560"/>
            <a:chOff x="3049920" y="466560"/>
            <a:chExt cx="275040" cy="6262560"/>
          </a:xfrm>
        </p:grpSpPr>
        <p:sp>
          <p:nvSpPr>
            <p:cNvPr id="2049" name=""/>
            <p:cNvSpPr/>
            <p:nvPr/>
          </p:nvSpPr>
          <p:spPr>
            <a:xfrm>
              <a:off x="31647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18024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04992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18024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18024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04992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049920" y="205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18024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8024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049920" y="282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04992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04992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049920" y="3605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04992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04992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04992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18024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18024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04992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04992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18024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049920" y="6194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1802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04992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3" name=""/>
          <p:cNvGrpSpPr/>
          <p:nvPr/>
        </p:nvGrpSpPr>
        <p:grpSpPr>
          <a:xfrm>
            <a:off x="3435840" y="466560"/>
            <a:ext cx="275040" cy="6262560"/>
            <a:chOff x="3435840" y="466560"/>
            <a:chExt cx="275040" cy="6262560"/>
          </a:xfrm>
        </p:grpSpPr>
        <p:sp>
          <p:nvSpPr>
            <p:cNvPr id="2074" name=""/>
            <p:cNvSpPr/>
            <p:nvPr/>
          </p:nvSpPr>
          <p:spPr>
            <a:xfrm>
              <a:off x="355068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43584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56616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56616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56616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43584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56616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56616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43584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56616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43584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43584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56616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43584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43584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56616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43584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43584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43584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43584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56616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56616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56616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566160" y="5416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8" name=""/>
          <p:cNvGrpSpPr/>
          <p:nvPr/>
        </p:nvGrpSpPr>
        <p:grpSpPr>
          <a:xfrm>
            <a:off x="3821760" y="466560"/>
            <a:ext cx="275040" cy="6262560"/>
            <a:chOff x="3821760" y="466560"/>
            <a:chExt cx="275040" cy="6262560"/>
          </a:xfrm>
        </p:grpSpPr>
        <p:sp>
          <p:nvSpPr>
            <p:cNvPr id="2099" name=""/>
            <p:cNvSpPr/>
            <p:nvPr/>
          </p:nvSpPr>
          <p:spPr>
            <a:xfrm>
              <a:off x="39366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82176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2176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82176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82176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82176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82176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82176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82176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82176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95208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82176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82176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95208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95208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82176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82176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95208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82176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95208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82176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82176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9520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82176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4207320" y="466560"/>
            <a:ext cx="275040" cy="6262560"/>
            <a:chOff x="4207320" y="466560"/>
            <a:chExt cx="275040" cy="6262560"/>
          </a:xfrm>
        </p:grpSpPr>
        <p:sp>
          <p:nvSpPr>
            <p:cNvPr id="2124" name=""/>
            <p:cNvSpPr/>
            <p:nvPr/>
          </p:nvSpPr>
          <p:spPr>
            <a:xfrm>
              <a:off x="43221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20732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20732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20732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20732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20732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20732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20732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20732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20732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33764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33764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33764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33764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33764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0732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0732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20732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20732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33764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20732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20732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3376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20732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4594680" y="466560"/>
            <a:ext cx="275040" cy="6262560"/>
            <a:chOff x="4594680" y="466560"/>
            <a:chExt cx="275040" cy="6262560"/>
          </a:xfrm>
        </p:grpSpPr>
        <p:sp>
          <p:nvSpPr>
            <p:cNvPr id="2149" name=""/>
            <p:cNvSpPr/>
            <p:nvPr/>
          </p:nvSpPr>
          <p:spPr>
            <a:xfrm>
              <a:off x="47095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59468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72500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72500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72500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59468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72500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72500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59468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72500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59468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59468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72500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72500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59468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59468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72500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72500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59468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5946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72500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72500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7250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59468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3" name=""/>
          <p:cNvGrpSpPr/>
          <p:nvPr/>
        </p:nvGrpSpPr>
        <p:grpSpPr>
          <a:xfrm>
            <a:off x="4980600" y="466560"/>
            <a:ext cx="275040" cy="6262560"/>
            <a:chOff x="4980600" y="466560"/>
            <a:chExt cx="275040" cy="6262560"/>
          </a:xfrm>
        </p:grpSpPr>
        <p:sp>
          <p:nvSpPr>
            <p:cNvPr id="2174" name=""/>
            <p:cNvSpPr/>
            <p:nvPr/>
          </p:nvSpPr>
          <p:spPr>
            <a:xfrm>
              <a:off x="50958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98060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1128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98060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98060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98060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98060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98060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98060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98060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11128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11128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11128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11128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11128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98060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98060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98060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98060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11128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98060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98060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1112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98060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8" name=""/>
          <p:cNvGrpSpPr/>
          <p:nvPr/>
        </p:nvGrpSpPr>
        <p:grpSpPr>
          <a:xfrm>
            <a:off x="5366520" y="466560"/>
            <a:ext cx="275040" cy="6262560"/>
            <a:chOff x="5366520" y="466560"/>
            <a:chExt cx="275040" cy="6262560"/>
          </a:xfrm>
        </p:grpSpPr>
        <p:sp>
          <p:nvSpPr>
            <p:cNvPr id="2199" name=""/>
            <p:cNvSpPr/>
            <p:nvPr/>
          </p:nvSpPr>
          <p:spPr>
            <a:xfrm>
              <a:off x="536652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36652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36652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4968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4813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36652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36652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36652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36652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36652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36652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36652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36652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36652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49684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49684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36652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49684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49684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36652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36652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36652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496840" y="5155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496840" y="5416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3" name=""/>
          <p:cNvSpPr/>
          <p:nvPr/>
        </p:nvSpPr>
        <p:spPr>
          <a:xfrm>
            <a:off x="2930040" y="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990000"/>
                </a:solidFill>
                <a:uFillTx/>
                <a:latin typeface="Courier New"/>
              </a:rPr>
              <a:t>Dayhoff PAM 250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4" name=""/>
          <p:cNvGrpSpPr/>
          <p:nvPr/>
        </p:nvGrpSpPr>
        <p:grpSpPr>
          <a:xfrm>
            <a:off x="735480" y="466560"/>
            <a:ext cx="275040" cy="6262560"/>
            <a:chOff x="735480" y="466560"/>
            <a:chExt cx="275040" cy="6262560"/>
          </a:xfrm>
        </p:grpSpPr>
        <p:sp>
          <p:nvSpPr>
            <p:cNvPr id="2225" name=""/>
            <p:cNvSpPr/>
            <p:nvPr/>
          </p:nvSpPr>
          <p:spPr>
            <a:xfrm>
              <a:off x="85068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35480" y="755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866160" y="10141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86616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35480" y="1531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3548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86616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35480" y="2309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35480" y="2568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6616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3548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3548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6616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866160" y="3863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3548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66160" y="4381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86616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35480" y="489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866160" y="515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354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3548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86616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86616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3548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9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1" name=""/>
          <p:cNvGrpSpPr/>
          <p:nvPr/>
        </p:nvGrpSpPr>
        <p:grpSpPr>
          <a:xfrm>
            <a:off x="0" y="0"/>
            <a:ext cx="9145800" cy="6546240"/>
            <a:chOff x="0" y="0"/>
            <a:chExt cx="9145800" cy="6546240"/>
          </a:xfrm>
        </p:grpSpPr>
        <p:sp>
          <p:nvSpPr>
            <p:cNvPr id="2252" name=""/>
            <p:cNvSpPr/>
            <p:nvPr/>
          </p:nvSpPr>
          <p:spPr>
            <a:xfrm>
              <a:off x="687600" y="3244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218200" y="83808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218200" y="258768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218200" y="462600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218200" y="287820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218200" y="113040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218200" y="171288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218200" y="491796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218200" y="550080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218200" y="200484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2" name=""/>
            <p:cNvGrpSpPr/>
            <p:nvPr/>
          </p:nvGrpSpPr>
          <p:grpSpPr>
            <a:xfrm>
              <a:off x="838080" y="228240"/>
              <a:ext cx="4572000" cy="3048120"/>
              <a:chOff x="838080" y="228240"/>
              <a:chExt cx="4572000" cy="3048120"/>
            </a:xfrm>
          </p:grpSpPr>
          <p:sp>
            <p:nvSpPr>
              <p:cNvPr id="2263" name=""/>
              <p:cNvSpPr/>
              <p:nvPr/>
            </p:nvSpPr>
            <p:spPr>
              <a:xfrm flipV="1">
                <a:off x="838080" y="228240"/>
                <a:ext cx="0" cy="3048120"/>
              </a:xfrm>
              <a:prstGeom prst="line">
                <a:avLst/>
              </a:prstGeom>
              <a:ln cap="rnd" w="414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>
                <a:off x="838080" y="228600"/>
                <a:ext cx="4572000" cy="0"/>
              </a:xfrm>
              <a:prstGeom prst="line">
                <a:avLst/>
              </a:prstGeom>
              <a:ln cap="rnd" w="414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410080" y="304920"/>
                <a:ext cx="0" cy="457200"/>
              </a:xfrm>
              <a:prstGeom prst="line">
                <a:avLst/>
              </a:prstGeom>
              <a:ln cap="rnd" w="41400">
                <a:solidFill>
                  <a:srgbClr val="ff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6" name=""/>
            <p:cNvSpPr/>
            <p:nvPr/>
          </p:nvSpPr>
          <p:spPr>
            <a:xfrm>
              <a:off x="5218200" y="520848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218200" y="433548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218200" y="317016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218200" y="229536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218200" y="142236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220000" y="579132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602000" y="3244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3" name=""/>
            <p:cNvGrpSpPr/>
            <p:nvPr/>
          </p:nvGrpSpPr>
          <p:grpSpPr>
            <a:xfrm>
              <a:off x="1752480" y="457200"/>
              <a:ext cx="4572000" cy="2819520"/>
              <a:chOff x="1752480" y="457200"/>
              <a:chExt cx="4572000" cy="2819520"/>
            </a:xfrm>
          </p:grpSpPr>
          <p:sp>
            <p:nvSpPr>
              <p:cNvPr id="2274" name=""/>
              <p:cNvSpPr/>
              <p:nvPr/>
            </p:nvSpPr>
            <p:spPr>
              <a:xfrm flipV="1">
                <a:off x="1752480" y="457200"/>
                <a:ext cx="0" cy="2819520"/>
              </a:xfrm>
              <a:prstGeom prst="line">
                <a:avLst/>
              </a:prstGeom>
              <a:ln cap="rnd" w="414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H="1">
                <a:off x="1752480" y="457200"/>
                <a:ext cx="4572000" cy="0"/>
              </a:xfrm>
              <a:prstGeom prst="line">
                <a:avLst/>
              </a:prstGeom>
              <a:ln cap="rnd" w="414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324480" y="457200"/>
                <a:ext cx="0" cy="304920"/>
              </a:xfrm>
              <a:prstGeom prst="line">
                <a:avLst/>
              </a:prstGeom>
              <a:ln cap="rnd" w="41400">
                <a:solidFill>
                  <a:srgbClr val="ff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7" name=""/>
            <p:cNvSpPr/>
            <p:nvPr/>
          </p:nvSpPr>
          <p:spPr>
            <a:xfrm>
              <a:off x="6135840" y="83808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135840" y="258768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135840" y="404352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135840" y="462600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135840" y="287820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135840" y="113040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135840" y="171288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135840" y="491796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129360" y="5500800"/>
              <a:ext cx="34776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135840" y="200484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135840" y="520848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135840" y="433548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135840" y="317016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6135840" y="229536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135840" y="142236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6122880" y="5791320"/>
              <a:ext cx="35424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135840" y="346068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4" name=""/>
            <p:cNvGrpSpPr/>
            <p:nvPr/>
          </p:nvGrpSpPr>
          <p:grpSpPr>
            <a:xfrm>
              <a:off x="82440" y="1066680"/>
              <a:ext cx="9063360" cy="5479560"/>
              <a:chOff x="82440" y="1066680"/>
              <a:chExt cx="9063360" cy="5479560"/>
            </a:xfrm>
          </p:grpSpPr>
          <p:grpSp>
            <p:nvGrpSpPr>
              <p:cNvPr id="2295" name=""/>
              <p:cNvGrpSpPr/>
              <p:nvPr/>
            </p:nvGrpSpPr>
            <p:grpSpPr>
              <a:xfrm>
                <a:off x="82440" y="1066680"/>
                <a:ext cx="8991360" cy="5105520"/>
                <a:chOff x="82440" y="1066680"/>
                <a:chExt cx="8991360" cy="5105520"/>
              </a:xfrm>
            </p:grpSpPr>
            <p:grpSp>
              <p:nvGrpSpPr>
                <p:cNvPr id="2296" name=""/>
                <p:cNvGrpSpPr/>
                <p:nvPr/>
              </p:nvGrpSpPr>
              <p:grpSpPr>
                <a:xfrm>
                  <a:off x="4654440" y="1143000"/>
                  <a:ext cx="4419360" cy="4952880"/>
                  <a:chOff x="4654440" y="1143000"/>
                  <a:chExt cx="4419360" cy="4952880"/>
                </a:xfrm>
              </p:grpSpPr>
              <p:sp>
                <p:nvSpPr>
                  <p:cNvPr id="2297" name=""/>
                  <p:cNvSpPr/>
                  <p:nvPr/>
                </p:nvSpPr>
                <p:spPr>
                  <a:xfrm>
                    <a:off x="4654440" y="114300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>
                    <a:off x="4654440" y="143352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>
                    <a:off x="4654440" y="172548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>
                    <a:off x="4654440" y="201600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>
                    <a:off x="4654440" y="230832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>
                    <a:off x="4654440" y="259884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>
                    <a:off x="4654440" y="289080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>
                    <a:off x="4654440" y="318132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4654440" y="347328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>
                    <a:off x="4654440" y="376380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4654440" y="405612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4654440" y="434664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>
                    <a:off x="4654440" y="463860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>
                    <a:off x="4654440" y="492912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>
                    <a:off x="4654440" y="522144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>
                    <a:off x="4654440" y="551196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>
                    <a:off x="4654440" y="580392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4" name=""/>
                  <p:cNvSpPr/>
                  <p:nvPr/>
                </p:nvSpPr>
                <p:spPr>
                  <a:xfrm>
                    <a:off x="4654440" y="609588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5" name=""/>
                <p:cNvGrpSpPr/>
                <p:nvPr/>
              </p:nvGrpSpPr>
              <p:grpSpPr>
                <a:xfrm>
                  <a:off x="82440" y="1066680"/>
                  <a:ext cx="4572000" cy="5105520"/>
                  <a:chOff x="82440" y="1066680"/>
                  <a:chExt cx="4572000" cy="5105520"/>
                </a:xfrm>
              </p:grpSpPr>
              <p:sp>
                <p:nvSpPr>
                  <p:cNvPr id="2316" name=""/>
                  <p:cNvSpPr/>
                  <p:nvPr/>
                </p:nvSpPr>
                <p:spPr>
                  <a:xfrm>
                    <a:off x="82440" y="3619440"/>
                    <a:ext cx="4419720" cy="0"/>
                  </a:xfrm>
                  <a:prstGeom prst="line">
                    <a:avLst/>
                  </a:prstGeom>
                  <a:ln w="4428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>
                    <a:off x="4425840" y="1066680"/>
                    <a:ext cx="228600" cy="5105520"/>
                  </a:xfrm>
                  <a:custGeom>
                    <a:avLst/>
                    <a:gdLst>
                      <a:gd name="textAreaLeft" fmla="*/ 146160 w 228600"/>
                      <a:gd name="textAreaRight" fmla="*/ 228960 w 228600"/>
                      <a:gd name="textAreaTop" fmla="*/ 132840 h 5105520"/>
                      <a:gd name="textAreaBottom" fmla="*/ 4972680 h 5105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31680">
                    <a:solidFill>
                      <a:srgbClr val="ffcc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18" name=""/>
              <p:cNvSpPr/>
              <p:nvPr/>
            </p:nvSpPr>
            <p:spPr>
              <a:xfrm>
                <a:off x="862560" y="3648240"/>
                <a:ext cx="310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990000"/>
                    </a:solidFill>
                    <a:latin typeface="Courier New"/>
                  </a:rPr>
                  <a:t>Original prote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4575960" y="6086520"/>
                <a:ext cx="456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990000"/>
                    </a:solidFill>
                    <a:latin typeface="Courier New"/>
                  </a:rPr>
                  <a:t>Aligned current protei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0" name=""/>
            <p:cNvSpPr/>
            <p:nvPr/>
          </p:nvSpPr>
          <p:spPr>
            <a:xfrm>
              <a:off x="6135840" y="375300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218200" y="404352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218200" y="3460680"/>
              <a:ext cx="333000" cy="398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6633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218200" y="3753000"/>
              <a:ext cx="333000" cy="398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4" name=""/>
            <p:cNvGrpSpPr/>
            <p:nvPr/>
          </p:nvGrpSpPr>
          <p:grpSpPr>
            <a:xfrm>
              <a:off x="82440" y="1066680"/>
              <a:ext cx="9063360" cy="5479560"/>
              <a:chOff x="82440" y="1066680"/>
              <a:chExt cx="9063360" cy="5479560"/>
            </a:xfrm>
          </p:grpSpPr>
          <p:grpSp>
            <p:nvGrpSpPr>
              <p:cNvPr id="2325" name=""/>
              <p:cNvGrpSpPr/>
              <p:nvPr/>
            </p:nvGrpSpPr>
            <p:grpSpPr>
              <a:xfrm>
                <a:off x="82440" y="1066680"/>
                <a:ext cx="8991360" cy="5105520"/>
                <a:chOff x="82440" y="1066680"/>
                <a:chExt cx="8991360" cy="5105520"/>
              </a:xfrm>
            </p:grpSpPr>
            <p:grpSp>
              <p:nvGrpSpPr>
                <p:cNvPr id="2326" name=""/>
                <p:cNvGrpSpPr/>
                <p:nvPr/>
              </p:nvGrpSpPr>
              <p:grpSpPr>
                <a:xfrm>
                  <a:off x="4654440" y="1143000"/>
                  <a:ext cx="4419360" cy="4952880"/>
                  <a:chOff x="4654440" y="1143000"/>
                  <a:chExt cx="4419360" cy="4952880"/>
                </a:xfrm>
              </p:grpSpPr>
              <p:sp>
                <p:nvSpPr>
                  <p:cNvPr id="2327" name=""/>
                  <p:cNvSpPr/>
                  <p:nvPr/>
                </p:nvSpPr>
                <p:spPr>
                  <a:xfrm>
                    <a:off x="4654440" y="114300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4654440" y="143352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4654440" y="172548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4654440" y="201600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4654440" y="230832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4654440" y="259884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4654440" y="289080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4654440" y="318132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>
                    <a:off x="4654440" y="347328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4654440" y="376380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4654440" y="405612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4654440" y="434664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4654440" y="463860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4654440" y="492912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4654440" y="522144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4654440" y="551196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4654440" y="580392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4654440" y="6095880"/>
                    <a:ext cx="4419360" cy="0"/>
                  </a:xfrm>
                  <a:prstGeom prst="line">
                    <a:avLst/>
                  </a:prstGeom>
                  <a:ln w="442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5" name=""/>
                <p:cNvGrpSpPr/>
                <p:nvPr/>
              </p:nvGrpSpPr>
              <p:grpSpPr>
                <a:xfrm>
                  <a:off x="82440" y="1066680"/>
                  <a:ext cx="4572000" cy="5105520"/>
                  <a:chOff x="82440" y="1066680"/>
                  <a:chExt cx="4572000" cy="5105520"/>
                </a:xfrm>
              </p:grpSpPr>
              <p:sp>
                <p:nvSpPr>
                  <p:cNvPr id="2346" name=""/>
                  <p:cNvSpPr/>
                  <p:nvPr/>
                </p:nvSpPr>
                <p:spPr>
                  <a:xfrm>
                    <a:off x="82440" y="3619440"/>
                    <a:ext cx="4419720" cy="0"/>
                  </a:xfrm>
                  <a:prstGeom prst="line">
                    <a:avLst/>
                  </a:prstGeom>
                  <a:ln w="4428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4425840" y="1066680"/>
                    <a:ext cx="228600" cy="5105520"/>
                  </a:xfrm>
                  <a:custGeom>
                    <a:avLst/>
                    <a:gdLst>
                      <a:gd name="textAreaLeft" fmla="*/ 146160 w 228600"/>
                      <a:gd name="textAreaRight" fmla="*/ 228960 w 228600"/>
                      <a:gd name="textAreaTop" fmla="*/ 132840 h 5105520"/>
                      <a:gd name="textAreaBottom" fmla="*/ 4972680 h 5105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31680">
                    <a:solidFill>
                      <a:srgbClr val="ffcc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48" name=""/>
              <p:cNvSpPr/>
              <p:nvPr/>
            </p:nvSpPr>
            <p:spPr>
              <a:xfrm>
                <a:off x="862560" y="3648240"/>
                <a:ext cx="310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990000"/>
                    </a:solidFill>
                    <a:latin typeface="Courier New"/>
                  </a:rPr>
                  <a:t>Original prote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4575960" y="6086520"/>
                <a:ext cx="456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990000"/>
                    </a:solidFill>
                    <a:latin typeface="Courier New"/>
                  </a:rPr>
                  <a:t>Aligned current protei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0" name="">
              <a:hlinkClick r:id="" action="ppaction://hlinkshowjump?jump=previousslide"/>
            </p:cNvPr>
            <p:cNvSpPr/>
            <p:nvPr/>
          </p:nvSpPr>
          <p:spPr>
            <a:xfrm>
              <a:off x="0" y="0"/>
              <a:ext cx="380880" cy="380880"/>
            </a:xfrm>
            <a:custGeom>
              <a:avLst/>
              <a:gdLst>
                <a:gd name="textAreaLeft" fmla="*/ 24480 w 380880"/>
                <a:gd name="textAreaRight" fmla="*/ 356400 w 38088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>
              <a:hlinkClick r:id="" action="ppaction://hlinkshowjump?jump=nextslide"/>
            </p:cNvPr>
            <p:cNvSpPr/>
            <p:nvPr/>
          </p:nvSpPr>
          <p:spPr>
            <a:xfrm>
              <a:off x="380880" y="0"/>
              <a:ext cx="381240" cy="384120"/>
            </a:xfrm>
            <a:custGeom>
              <a:avLst/>
              <a:gdLst>
                <a:gd name="textAreaLeft" fmla="*/ 24480 w 381240"/>
                <a:gd name="textAreaRight" fmla="*/ 356760 w 381240"/>
                <a:gd name="textAreaTop" fmla="*/ 24480 h 384120"/>
                <a:gd name="textAreaBottom" fmla="*/ 359640 h 384120"/>
              </a:gdLst>
              <a:ahLst/>
              <a:rect l="textAreaLeft" t="textAreaTop" r="textAreaRight" b="textAreaBottom"/>
              <a:pathLst>
                <a:path w="21600" h="21763">
                  <a:moveTo>
                    <a:pt x="0" y="0"/>
                  </a:moveTo>
                  <a:lnTo>
                    <a:pt x="21600" y="0"/>
                  </a:lnTo>
                  <a:lnTo>
                    <a:pt x="21600" y="21763"/>
                  </a:lnTo>
                  <a:lnTo>
                    <a:pt x="0" y="21763"/>
                  </a:lnTo>
                  <a:close/>
                </a:path>
                <a:path fill="lightenLess" w="21600" h="2176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763">
                  <a:moveTo>
                    <a:pt x="21600" y="0"/>
                  </a:moveTo>
                  <a:lnTo>
                    <a:pt x="21600" y="21763"/>
                  </a:lnTo>
                  <a:lnTo>
                    <a:pt x="20200" y="20363"/>
                  </a:lnTo>
                  <a:lnTo>
                    <a:pt x="20200" y="1400"/>
                  </a:lnTo>
                  <a:close/>
                </a:path>
                <a:path fill="darkenLess" w="21600" h="21763">
                  <a:moveTo>
                    <a:pt x="21600" y="21763"/>
                  </a:moveTo>
                  <a:lnTo>
                    <a:pt x="0" y="21763"/>
                  </a:lnTo>
                  <a:lnTo>
                    <a:pt x="1400" y="20363"/>
                  </a:lnTo>
                  <a:lnTo>
                    <a:pt x="20200" y="20363"/>
                  </a:lnTo>
                  <a:close/>
                </a:path>
                <a:path fill="lighten" w="21600" h="21763">
                  <a:moveTo>
                    <a:pt x="0" y="2176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363"/>
                  </a:lnTo>
                  <a:close/>
                </a:path>
                <a:path fill="darken" w="21600" h="21763">
                  <a:moveTo>
                    <a:pt x="3794" y="3875"/>
                  </a:moveTo>
                  <a:lnTo>
                    <a:pt x="17806" y="10882"/>
                  </a:lnTo>
                  <a:lnTo>
                    <a:pt x="3794" y="17888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73440" y="4191120"/>
            <a:ext cx="4295520" cy="368280"/>
            <a:chOff x="73440" y="4191120"/>
            <a:chExt cx="4295520" cy="368280"/>
          </a:xfrm>
        </p:grpSpPr>
        <p:sp>
          <p:nvSpPr>
            <p:cNvPr id="2353" name=""/>
            <p:cNvSpPr/>
            <p:nvPr/>
          </p:nvSpPr>
          <p:spPr>
            <a:xfrm>
              <a:off x="73440" y="4191120"/>
              <a:ext cx="429552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Courier New"/>
                </a:rPr>
                <a:t>The High W    W score implie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549440" y="435924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74880" y="5653080"/>
            <a:ext cx="4295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urier New"/>
              </a:rPr>
              <a:t>Any substitutions are uncom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760680" y="4921200"/>
            <a:ext cx="292392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Where W is conser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2897280" y="3244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7451640" y="83808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7451640" y="113184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7451640" y="289080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7451640" y="259704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7451640" y="230508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7451640" y="171756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7451640" y="142560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7451640" y="582120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7451640" y="201132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51640" y="318456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451640" y="347652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7451640" y="377028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451640" y="406404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451640" y="435600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7451640" y="464976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7451640" y="494352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451640" y="523548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7451640" y="5529240"/>
            <a:ext cx="320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6" name=""/>
          <p:cNvGrpSpPr/>
          <p:nvPr/>
        </p:nvGrpSpPr>
        <p:grpSpPr>
          <a:xfrm>
            <a:off x="3048120" y="151920"/>
            <a:ext cx="4572000" cy="3124440"/>
            <a:chOff x="3048120" y="151920"/>
            <a:chExt cx="4572000" cy="3124440"/>
          </a:xfrm>
        </p:grpSpPr>
        <p:sp>
          <p:nvSpPr>
            <p:cNvPr id="2377" name=""/>
            <p:cNvSpPr/>
            <p:nvPr/>
          </p:nvSpPr>
          <p:spPr>
            <a:xfrm flipV="1">
              <a:off x="3048120" y="151920"/>
              <a:ext cx="0" cy="3124440"/>
            </a:xfrm>
            <a:prstGeom prst="line">
              <a:avLst/>
            </a:prstGeom>
            <a:ln cap="rnd" w="414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3048120" y="152280"/>
              <a:ext cx="4572000" cy="0"/>
            </a:xfrm>
            <a:prstGeom prst="line">
              <a:avLst/>
            </a:prstGeom>
            <a:ln cap="rnd" w="414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620120" y="152280"/>
              <a:ext cx="0" cy="609840"/>
            </a:xfrm>
            <a:prstGeom prst="line">
              <a:avLst/>
            </a:prstGeom>
            <a:ln cap="rnd" w="4140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7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2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7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2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7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2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7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62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7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2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77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2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87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9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4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9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14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19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/>
          <p:nvPr/>
        </p:nvSpPr>
        <p:spPr>
          <a:xfrm>
            <a:off x="304920" y="695160"/>
            <a:ext cx="8762760" cy="6096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0" y="762120"/>
            <a:ext cx="304920" cy="304560"/>
          </a:xfrm>
          <a:prstGeom prst="ellipse">
            <a:avLst/>
          </a:prstGeom>
          <a:solidFill>
            <a:srgbClr val="9696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304920" y="771480"/>
            <a:ext cx="8762760" cy="6019920"/>
            <a:chOff x="304920" y="771480"/>
            <a:chExt cx="8762760" cy="6019920"/>
          </a:xfrm>
        </p:grpSpPr>
        <p:sp>
          <p:nvSpPr>
            <p:cNvPr id="2383" name=""/>
            <p:cNvSpPr/>
            <p:nvPr/>
          </p:nvSpPr>
          <p:spPr>
            <a:xfrm>
              <a:off x="52992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75664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8332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22552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9150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99412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06744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45156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8356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2198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6042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9884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37252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5306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1464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76236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37824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6100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4572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107316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8414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8904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04920" y="10000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04920" y="12286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04920" y="15336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04920" y="17622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4920" y="20797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04920" y="22957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04920" y="26002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04920" y="28288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04920" y="30574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04920" y="33624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04920" y="35910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04920" y="38959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304920" y="41245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304920" y="43531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304920" y="46576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04920" y="48862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04920" y="51912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04920" y="54198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04920" y="56484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4920" y="59533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04920" y="61819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04920" y="64864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7" name=""/>
          <p:cNvSpPr/>
          <p:nvPr/>
        </p:nvSpPr>
        <p:spPr>
          <a:xfrm>
            <a:off x="380880" y="457200"/>
            <a:ext cx="304920" cy="304920"/>
          </a:xfrm>
          <a:prstGeom prst="ellipse">
            <a:avLst/>
          </a:prstGeom>
          <a:solidFill>
            <a:srgbClr val="9696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304920" y="695160"/>
            <a:ext cx="457200" cy="38124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9" name=""/>
          <p:cNvGrpSpPr/>
          <p:nvPr/>
        </p:nvGrpSpPr>
        <p:grpSpPr>
          <a:xfrm>
            <a:off x="5752080" y="466560"/>
            <a:ext cx="275040" cy="6262560"/>
            <a:chOff x="5752080" y="466560"/>
            <a:chExt cx="275040" cy="6262560"/>
          </a:xfrm>
        </p:grpSpPr>
        <p:sp>
          <p:nvSpPr>
            <p:cNvPr id="2430" name=""/>
            <p:cNvSpPr/>
            <p:nvPr/>
          </p:nvSpPr>
          <p:spPr>
            <a:xfrm>
              <a:off x="58669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88240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88240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75208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5208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75208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88240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75208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75208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88240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75208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75208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75208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5208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75208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88240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88240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88240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75208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75208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7520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75208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8240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8824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6138000" y="466560"/>
            <a:ext cx="275040" cy="6262560"/>
            <a:chOff x="6138000" y="466560"/>
            <a:chExt cx="275040" cy="6262560"/>
          </a:xfrm>
        </p:grpSpPr>
        <p:sp>
          <p:nvSpPr>
            <p:cNvPr id="2455" name=""/>
            <p:cNvSpPr/>
            <p:nvPr/>
          </p:nvSpPr>
          <p:spPr>
            <a:xfrm>
              <a:off x="625284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26832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26832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26832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26832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268320" y="178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13800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26832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268320" y="255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13800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13800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13800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6832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13800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13800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26832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6832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26832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13800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13800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13800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26832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26832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26832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9" name=""/>
          <p:cNvGrpSpPr/>
          <p:nvPr/>
        </p:nvGrpSpPr>
        <p:grpSpPr>
          <a:xfrm>
            <a:off x="6523560" y="466560"/>
            <a:ext cx="275040" cy="6262560"/>
            <a:chOff x="6523560" y="466560"/>
            <a:chExt cx="275040" cy="6262560"/>
          </a:xfrm>
        </p:grpSpPr>
        <p:sp>
          <p:nvSpPr>
            <p:cNvPr id="2480" name=""/>
            <p:cNvSpPr/>
            <p:nvPr/>
          </p:nvSpPr>
          <p:spPr>
            <a:xfrm>
              <a:off x="66384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65388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52356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65388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65388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52356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52356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65388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653880" y="255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52356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65388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52356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65388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52356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52356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65388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65388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65388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2356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2356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65388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65388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52356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6538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4" name=""/>
          <p:cNvGrpSpPr/>
          <p:nvPr/>
        </p:nvGrpSpPr>
        <p:grpSpPr>
          <a:xfrm>
            <a:off x="6909480" y="466560"/>
            <a:ext cx="275040" cy="6262560"/>
            <a:chOff x="6909480" y="466560"/>
            <a:chExt cx="275040" cy="6262560"/>
          </a:xfrm>
        </p:grpSpPr>
        <p:sp>
          <p:nvSpPr>
            <p:cNvPr id="2505" name=""/>
            <p:cNvSpPr/>
            <p:nvPr/>
          </p:nvSpPr>
          <p:spPr>
            <a:xfrm>
              <a:off x="70243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90948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03980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90948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90948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90948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90948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90948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90948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90948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90948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90948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0948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90948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03980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90948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90948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90948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90948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039800" y="5416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9094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90948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90948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0398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9" name=""/>
          <p:cNvGrpSpPr/>
          <p:nvPr/>
        </p:nvGrpSpPr>
        <p:grpSpPr>
          <a:xfrm>
            <a:off x="7295040" y="466560"/>
            <a:ext cx="275040" cy="6262560"/>
            <a:chOff x="7295040" y="466560"/>
            <a:chExt cx="275040" cy="6262560"/>
          </a:xfrm>
        </p:grpSpPr>
        <p:sp>
          <p:nvSpPr>
            <p:cNvPr id="2530" name=""/>
            <p:cNvSpPr/>
            <p:nvPr/>
          </p:nvSpPr>
          <p:spPr>
            <a:xfrm>
              <a:off x="740988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29504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29504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29504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29504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425360" y="178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29504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29504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29504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42536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729504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29504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29504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42536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42536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29504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29504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29504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425360" y="5155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29504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29504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29504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29504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42536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4" name=""/>
          <p:cNvGrpSpPr/>
          <p:nvPr/>
        </p:nvGrpSpPr>
        <p:grpSpPr>
          <a:xfrm>
            <a:off x="7680960" y="466560"/>
            <a:ext cx="275040" cy="6262560"/>
            <a:chOff x="7680960" y="466560"/>
            <a:chExt cx="275040" cy="6262560"/>
          </a:xfrm>
        </p:grpSpPr>
        <p:sp>
          <p:nvSpPr>
            <p:cNvPr id="2555" name=""/>
            <p:cNvSpPr/>
            <p:nvPr/>
          </p:nvSpPr>
          <p:spPr>
            <a:xfrm>
              <a:off x="77961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81164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68096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68096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68096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68096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68096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68096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68096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68096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81164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81164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68096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81164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68096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68096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68096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81164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68096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68096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81164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68096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68096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8116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9" name=""/>
          <p:cNvGrpSpPr/>
          <p:nvPr/>
        </p:nvGrpSpPr>
        <p:grpSpPr>
          <a:xfrm>
            <a:off x="8066520" y="466560"/>
            <a:ext cx="275040" cy="6262560"/>
            <a:chOff x="8066520" y="466560"/>
            <a:chExt cx="275040" cy="6262560"/>
          </a:xfrm>
        </p:grpSpPr>
        <p:sp>
          <p:nvSpPr>
            <p:cNvPr id="2580" name=""/>
            <p:cNvSpPr/>
            <p:nvPr/>
          </p:nvSpPr>
          <p:spPr>
            <a:xfrm>
              <a:off x="81817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819720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806652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819720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819720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806652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819720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819720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8197200" y="255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819720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806652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806652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819720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806652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806652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806652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819720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819720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806652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806652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806652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819720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819720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81972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4" name=""/>
          <p:cNvGrpSpPr/>
          <p:nvPr/>
        </p:nvGrpSpPr>
        <p:grpSpPr>
          <a:xfrm>
            <a:off x="8452440" y="466560"/>
            <a:ext cx="275040" cy="6262560"/>
            <a:chOff x="8452440" y="466560"/>
            <a:chExt cx="275040" cy="6262560"/>
          </a:xfrm>
        </p:grpSpPr>
        <p:sp>
          <p:nvSpPr>
            <p:cNvPr id="2605" name=""/>
            <p:cNvSpPr/>
            <p:nvPr/>
          </p:nvSpPr>
          <p:spPr>
            <a:xfrm>
              <a:off x="856764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58312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58312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58312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858312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845244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858312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858312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845244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858312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845244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845244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858312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845244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845244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858312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858312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845244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45244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845244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845244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858312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858312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858312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9" name=""/>
          <p:cNvGrpSpPr/>
          <p:nvPr/>
        </p:nvGrpSpPr>
        <p:grpSpPr>
          <a:xfrm>
            <a:off x="8846640" y="466560"/>
            <a:ext cx="153360" cy="6262560"/>
            <a:chOff x="8846640" y="466560"/>
            <a:chExt cx="153360" cy="6262560"/>
          </a:xfrm>
        </p:grpSpPr>
        <p:sp>
          <p:nvSpPr>
            <p:cNvPr id="2630" name=""/>
            <p:cNvSpPr/>
            <p:nvPr/>
          </p:nvSpPr>
          <p:spPr>
            <a:xfrm>
              <a:off x="884664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886212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886212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886212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886212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8862120" y="178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886212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886212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8862120" y="255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886212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886212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886212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886212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886212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886212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886212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886212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886212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8862120" y="5155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8862120" y="5416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886212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886212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886212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886212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4" name=""/>
          <p:cNvGrpSpPr/>
          <p:nvPr/>
        </p:nvGrpSpPr>
        <p:grpSpPr>
          <a:xfrm>
            <a:off x="68040" y="727200"/>
            <a:ext cx="153000" cy="6018480"/>
            <a:chOff x="68040" y="727200"/>
            <a:chExt cx="153000" cy="6018480"/>
          </a:xfrm>
        </p:grpSpPr>
        <p:sp>
          <p:nvSpPr>
            <p:cNvPr id="2655" name=""/>
            <p:cNvSpPr/>
            <p:nvPr/>
          </p:nvSpPr>
          <p:spPr>
            <a:xfrm>
              <a:off x="68040" y="7272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8040" y="9874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8040" y="12463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8040" y="15066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8040" y="17668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8040" y="20257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8040" y="22860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8040" y="25448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8040" y="28051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8040" y="30654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8040" y="33242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8040" y="35845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8040" y="38433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8040" y="41036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8040" y="43639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8040" y="46227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8040" y="48830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8040" y="51418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8040" y="56624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8040" y="59212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8040" y="6181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8040" y="64404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8040" y="54021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8" name=""/>
          <p:cNvGrpSpPr/>
          <p:nvPr/>
        </p:nvGrpSpPr>
        <p:grpSpPr>
          <a:xfrm>
            <a:off x="349920" y="466560"/>
            <a:ext cx="275040" cy="6262560"/>
            <a:chOff x="349920" y="466560"/>
            <a:chExt cx="275040" cy="6262560"/>
          </a:xfrm>
        </p:grpSpPr>
        <p:sp>
          <p:nvSpPr>
            <p:cNvPr id="2679" name=""/>
            <p:cNvSpPr/>
            <p:nvPr/>
          </p:nvSpPr>
          <p:spPr>
            <a:xfrm>
              <a:off x="4651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8060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4992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8060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8060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4992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8060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8060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8060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49920" y="282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4992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4992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49920" y="3605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4992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4992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80600" y="4381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8060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8060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4992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8060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8060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8060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806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4992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1121400" y="466560"/>
            <a:ext cx="275040" cy="6262560"/>
            <a:chOff x="1121400" y="466560"/>
            <a:chExt cx="275040" cy="6262560"/>
          </a:xfrm>
        </p:grpSpPr>
        <p:sp>
          <p:nvSpPr>
            <p:cNvPr id="2704" name=""/>
            <p:cNvSpPr/>
            <p:nvPr/>
          </p:nvSpPr>
          <p:spPr>
            <a:xfrm>
              <a:off x="12366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25208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252080" y="10141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25208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25208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112140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25208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25208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25208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25208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12140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12140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25208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12140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12140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12140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25208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125208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12140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112140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25208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25208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2520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112140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1506960" y="466560"/>
            <a:ext cx="275040" cy="6262560"/>
            <a:chOff x="1506960" y="466560"/>
            <a:chExt cx="275040" cy="6262560"/>
          </a:xfrm>
        </p:grpSpPr>
        <p:sp>
          <p:nvSpPr>
            <p:cNvPr id="2729" name=""/>
            <p:cNvSpPr/>
            <p:nvPr/>
          </p:nvSpPr>
          <p:spPr>
            <a:xfrm>
              <a:off x="16221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63764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150696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163764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163764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150696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63764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63764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63764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63764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50696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50696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63764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150696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50696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50696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63764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63764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50696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50696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63764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63764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6376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50696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3" name=""/>
          <p:cNvGrpSpPr/>
          <p:nvPr/>
        </p:nvGrpSpPr>
        <p:grpSpPr>
          <a:xfrm>
            <a:off x="1892880" y="466560"/>
            <a:ext cx="275040" cy="6262560"/>
            <a:chOff x="1892880" y="466560"/>
            <a:chExt cx="275040" cy="6262560"/>
          </a:xfrm>
        </p:grpSpPr>
        <p:sp>
          <p:nvSpPr>
            <p:cNvPr id="2754" name=""/>
            <p:cNvSpPr/>
            <p:nvPr/>
          </p:nvSpPr>
          <p:spPr>
            <a:xfrm>
              <a:off x="195228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892880" y="755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89288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892880" y="1272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892880" y="1531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89288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892880" y="205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1892880" y="2309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1892880" y="2568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1892880" y="282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189288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189288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1892880" y="3605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189288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189288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189288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196164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892880" y="489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89288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8928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89288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1892880" y="6194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9616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961640" y="54180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8" name=""/>
          <p:cNvGrpSpPr/>
          <p:nvPr/>
        </p:nvGrpSpPr>
        <p:grpSpPr>
          <a:xfrm>
            <a:off x="2278800" y="466560"/>
            <a:ext cx="275040" cy="6262560"/>
            <a:chOff x="2278800" y="466560"/>
            <a:chExt cx="275040" cy="6262560"/>
          </a:xfrm>
        </p:grpSpPr>
        <p:sp>
          <p:nvSpPr>
            <p:cNvPr id="2779" name=""/>
            <p:cNvSpPr/>
            <p:nvPr/>
          </p:nvSpPr>
          <p:spPr>
            <a:xfrm>
              <a:off x="239364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40912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409120" y="10141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40912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40912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27880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40912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40912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278800" y="2568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40912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27880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27880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40912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27880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27880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409120" y="4381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278800" y="464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278800" y="489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27880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27880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40912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40912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240912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27880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2664360" y="466560"/>
            <a:ext cx="275040" cy="6262560"/>
            <a:chOff x="2664360" y="466560"/>
            <a:chExt cx="275040" cy="6262560"/>
          </a:xfrm>
        </p:grpSpPr>
        <p:sp>
          <p:nvSpPr>
            <p:cNvPr id="2804" name=""/>
            <p:cNvSpPr/>
            <p:nvPr/>
          </p:nvSpPr>
          <p:spPr>
            <a:xfrm>
              <a:off x="27792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79468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66436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79468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79468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66436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79468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79468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79468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79468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66436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66436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79468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66436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66436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66436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79468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79468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66436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66436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79468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9468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7946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66436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8" name=""/>
          <p:cNvGrpSpPr/>
          <p:nvPr/>
        </p:nvGrpSpPr>
        <p:grpSpPr>
          <a:xfrm>
            <a:off x="3049920" y="466560"/>
            <a:ext cx="275040" cy="6262560"/>
            <a:chOff x="3049920" y="466560"/>
            <a:chExt cx="275040" cy="6262560"/>
          </a:xfrm>
        </p:grpSpPr>
        <p:sp>
          <p:nvSpPr>
            <p:cNvPr id="2829" name=""/>
            <p:cNvSpPr/>
            <p:nvPr/>
          </p:nvSpPr>
          <p:spPr>
            <a:xfrm>
              <a:off x="31647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318024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304992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318024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18024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04992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049920" y="205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18024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18024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049920" y="282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04992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04992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049920" y="3605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04992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04992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04992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18024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18024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04992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04992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18024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049920" y="6194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1802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04992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3" name=""/>
          <p:cNvGrpSpPr/>
          <p:nvPr/>
        </p:nvGrpSpPr>
        <p:grpSpPr>
          <a:xfrm>
            <a:off x="3435840" y="466560"/>
            <a:ext cx="275040" cy="6262560"/>
            <a:chOff x="3435840" y="466560"/>
            <a:chExt cx="275040" cy="6262560"/>
          </a:xfrm>
        </p:grpSpPr>
        <p:sp>
          <p:nvSpPr>
            <p:cNvPr id="2854" name=""/>
            <p:cNvSpPr/>
            <p:nvPr/>
          </p:nvSpPr>
          <p:spPr>
            <a:xfrm>
              <a:off x="355068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43584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56616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356616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356616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43584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56616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56616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43584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56616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43584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43584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356616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43584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43584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56616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43584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43584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43584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43584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56616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56616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56616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566160" y="5416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8" name=""/>
          <p:cNvGrpSpPr/>
          <p:nvPr/>
        </p:nvGrpSpPr>
        <p:grpSpPr>
          <a:xfrm>
            <a:off x="3821760" y="466560"/>
            <a:ext cx="275040" cy="6262560"/>
            <a:chOff x="3821760" y="466560"/>
            <a:chExt cx="275040" cy="6262560"/>
          </a:xfrm>
        </p:grpSpPr>
        <p:sp>
          <p:nvSpPr>
            <p:cNvPr id="2879" name=""/>
            <p:cNvSpPr/>
            <p:nvPr/>
          </p:nvSpPr>
          <p:spPr>
            <a:xfrm>
              <a:off x="39366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82176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82176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82176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82176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82176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382176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82176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82176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382176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95208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82176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82176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395208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95208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82176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82176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95208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82176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95208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82176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82176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9520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82176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3" name=""/>
          <p:cNvGrpSpPr/>
          <p:nvPr/>
        </p:nvGrpSpPr>
        <p:grpSpPr>
          <a:xfrm>
            <a:off x="4207320" y="466560"/>
            <a:ext cx="275040" cy="6262560"/>
            <a:chOff x="4207320" y="466560"/>
            <a:chExt cx="275040" cy="6262560"/>
          </a:xfrm>
        </p:grpSpPr>
        <p:sp>
          <p:nvSpPr>
            <p:cNvPr id="2904" name=""/>
            <p:cNvSpPr/>
            <p:nvPr/>
          </p:nvSpPr>
          <p:spPr>
            <a:xfrm>
              <a:off x="43221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20732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20732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420732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20732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20732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20732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420732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20732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20732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33764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33764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33764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33764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433764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420732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20732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420732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420732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433764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420732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420732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3376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20732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8" name=""/>
          <p:cNvGrpSpPr/>
          <p:nvPr/>
        </p:nvGrpSpPr>
        <p:grpSpPr>
          <a:xfrm>
            <a:off x="4594680" y="466560"/>
            <a:ext cx="275040" cy="6262560"/>
            <a:chOff x="4594680" y="466560"/>
            <a:chExt cx="275040" cy="6262560"/>
          </a:xfrm>
        </p:grpSpPr>
        <p:sp>
          <p:nvSpPr>
            <p:cNvPr id="2929" name=""/>
            <p:cNvSpPr/>
            <p:nvPr/>
          </p:nvSpPr>
          <p:spPr>
            <a:xfrm>
              <a:off x="47095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59468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472500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72500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472500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59468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72500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72500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59468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72500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59468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59468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72500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72500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59468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59468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72500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72500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59468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5946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72500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72500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7250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59468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3" name=""/>
          <p:cNvGrpSpPr/>
          <p:nvPr/>
        </p:nvGrpSpPr>
        <p:grpSpPr>
          <a:xfrm>
            <a:off x="4980600" y="466560"/>
            <a:ext cx="275040" cy="6262560"/>
            <a:chOff x="4980600" y="466560"/>
            <a:chExt cx="275040" cy="6262560"/>
          </a:xfrm>
        </p:grpSpPr>
        <p:sp>
          <p:nvSpPr>
            <p:cNvPr id="2954" name=""/>
            <p:cNvSpPr/>
            <p:nvPr/>
          </p:nvSpPr>
          <p:spPr>
            <a:xfrm>
              <a:off x="50958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98060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511128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98060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98060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98060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98060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98060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98060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98060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11128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11128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11128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11128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11128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98060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98060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98060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98060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511128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98060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98060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51112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98060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5366520" y="466560"/>
            <a:ext cx="275040" cy="6262560"/>
            <a:chOff x="5366520" y="466560"/>
            <a:chExt cx="275040" cy="6262560"/>
          </a:xfrm>
        </p:grpSpPr>
        <p:sp>
          <p:nvSpPr>
            <p:cNvPr id="2979" name=""/>
            <p:cNvSpPr/>
            <p:nvPr/>
          </p:nvSpPr>
          <p:spPr>
            <a:xfrm>
              <a:off x="536652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536652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36652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4968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4813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36652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536652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536652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536652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36652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536652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536652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36652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536652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49684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49684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36652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49684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49684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536652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536652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36652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5496840" y="5155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5496840" y="5416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3" name=""/>
          <p:cNvSpPr/>
          <p:nvPr/>
        </p:nvSpPr>
        <p:spPr>
          <a:xfrm>
            <a:off x="2930040" y="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990000"/>
                </a:solidFill>
                <a:uFillTx/>
                <a:latin typeface="Courier New"/>
              </a:rPr>
              <a:t>Dayhoff PAM 250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4" name=""/>
          <p:cNvGrpSpPr/>
          <p:nvPr/>
        </p:nvGrpSpPr>
        <p:grpSpPr>
          <a:xfrm>
            <a:off x="735480" y="466560"/>
            <a:ext cx="275040" cy="6262560"/>
            <a:chOff x="735480" y="466560"/>
            <a:chExt cx="275040" cy="6262560"/>
          </a:xfrm>
        </p:grpSpPr>
        <p:sp>
          <p:nvSpPr>
            <p:cNvPr id="3005" name=""/>
            <p:cNvSpPr/>
            <p:nvPr/>
          </p:nvSpPr>
          <p:spPr>
            <a:xfrm>
              <a:off x="85068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35480" y="755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66160" y="10141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6616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35480" y="1531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3548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6616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35480" y="2309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35480" y="2568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6616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3548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3548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6616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66160" y="3863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3548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66160" y="4381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6616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35480" y="489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66160" y="515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354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3548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6616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6616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3548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9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3657600" y="1276200"/>
            <a:ext cx="1447920" cy="55569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8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1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6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3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9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6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6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3657600" y="723960"/>
            <a:ext cx="838080" cy="524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AMI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4495680" y="723960"/>
            <a:ext cx="609840" cy="520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3657600" y="1276200"/>
            <a:ext cx="1447920" cy="276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8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3657600" y="6246720"/>
            <a:ext cx="1447920" cy="276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6" name=""/>
          <p:cNvGrpSpPr/>
          <p:nvPr/>
        </p:nvGrpSpPr>
        <p:grpSpPr>
          <a:xfrm>
            <a:off x="3240" y="1249200"/>
            <a:ext cx="3654360" cy="368280"/>
            <a:chOff x="3240" y="1249200"/>
            <a:chExt cx="3654360" cy="368280"/>
          </a:xfrm>
        </p:grpSpPr>
        <p:sp>
          <p:nvSpPr>
            <p:cNvPr id="3037" name=""/>
            <p:cNvSpPr/>
            <p:nvPr/>
          </p:nvSpPr>
          <p:spPr>
            <a:xfrm>
              <a:off x="3240" y="1249200"/>
              <a:ext cx="29833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Garamond"/>
                </a:rPr>
                <a:t>Alanine is very comm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2743200" y="1428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9" name=""/>
          <p:cNvGrpSpPr/>
          <p:nvPr/>
        </p:nvGrpSpPr>
        <p:grpSpPr>
          <a:xfrm>
            <a:off x="5105520" y="6172200"/>
            <a:ext cx="4200120" cy="368280"/>
            <a:chOff x="5105520" y="6172200"/>
            <a:chExt cx="4200120" cy="368280"/>
          </a:xfrm>
        </p:grpSpPr>
        <p:sp>
          <p:nvSpPr>
            <p:cNvPr id="3040" name=""/>
            <p:cNvSpPr/>
            <p:nvPr/>
          </p:nvSpPr>
          <p:spPr>
            <a:xfrm>
              <a:off x="5752440" y="6172200"/>
              <a:ext cx="3553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Garamond"/>
                </a:rPr>
                <a:t>Tryptophan is relatively r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 flipH="1">
              <a:off x="5105520" y="640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2" name=""/>
          <p:cNvSpPr/>
          <p:nvPr/>
        </p:nvSpPr>
        <p:spPr>
          <a:xfrm>
            <a:off x="1146240" y="-76320"/>
            <a:ext cx="731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Typical Amino Acid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{</a:t>
            </a:r>
            <a:r>
              <a:rPr b="1" lang="en-GB" sz="2000" spc="-1" strike="noStrike" u="sng">
                <a:solidFill>
                  <a:srgbClr val="990000"/>
                </a:solidFill>
                <a:uFillTx/>
                <a:latin typeface="Courier New"/>
              </a:rPr>
              <a:t>according to Argos and McCaldo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"/>
          <p:cNvSpPr/>
          <p:nvPr/>
        </p:nvSpPr>
        <p:spPr>
          <a:xfrm>
            <a:off x="538560" y="609480"/>
            <a:ext cx="548424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Courier New"/>
              </a:rPr>
              <a:t>PAM – Point Accepted M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528480" y="1523880"/>
            <a:ext cx="804456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Courier New"/>
              </a:rPr>
              <a:t>PAM – is a measure of evolutionary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609480" y="4390920"/>
            <a:ext cx="8077320" cy="1557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Courier New"/>
              </a:rPr>
              <a:t>An evolutionary distance of 1 PAM indicates the probability of a residue mutating during a distance in which 1 point mutation was accepted per 100 resid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"/>
          <p:cNvSpPr/>
          <p:nvPr/>
        </p:nvSpPr>
        <p:spPr>
          <a:xfrm>
            <a:off x="1332000" y="162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1332000" y="25574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Arial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1332000" y="35672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i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2627280" y="1622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2627280" y="2557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2627280" y="35672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4" name=""/>
          <p:cNvGrpSpPr/>
          <p:nvPr/>
        </p:nvGrpSpPr>
        <p:grpSpPr>
          <a:xfrm>
            <a:off x="2340000" y="1052640"/>
            <a:ext cx="1081080" cy="3024000"/>
            <a:chOff x="2340000" y="1052640"/>
            <a:chExt cx="1081080" cy="3024000"/>
          </a:xfrm>
        </p:grpSpPr>
        <p:sp>
          <p:nvSpPr>
            <p:cNvPr id="3055" name=""/>
            <p:cNvSpPr/>
            <p:nvPr/>
          </p:nvSpPr>
          <p:spPr>
            <a:xfrm>
              <a:off x="2556000" y="1125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2340000" y="1052640"/>
              <a:ext cx="1079640" cy="3024000"/>
            </a:xfrm>
            <a:prstGeom prst="rect">
              <a:avLst/>
            </a:prstGeom>
            <a:noFill/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7" name=""/>
          <p:cNvSpPr/>
          <p:nvPr/>
        </p:nvSpPr>
        <p:spPr>
          <a:xfrm flipH="1">
            <a:off x="3059280" y="2824200"/>
            <a:ext cx="72720" cy="892080"/>
          </a:xfrm>
          <a:custGeom>
            <a:avLst/>
            <a:gdLst/>
            <a:ahLst/>
            <a:rect l="l" t="t" r="r" b="b"/>
            <a:pathLst>
              <a:path w="1" h="970">
                <a:moveTo>
                  <a:pt x="0" y="0"/>
                </a:moveTo>
                <a:lnTo>
                  <a:pt x="0" y="970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2698920" y="2060640"/>
            <a:ext cx="1440" cy="434880"/>
          </a:xfrm>
          <a:custGeom>
            <a:avLst/>
            <a:gdLst/>
            <a:ahLst/>
            <a:rect l="l" t="t" r="r" b="b"/>
            <a:pathLst>
              <a:path w="1" h="274">
                <a:moveTo>
                  <a:pt x="0" y="0"/>
                </a:moveTo>
                <a:lnTo>
                  <a:pt x="1" y="274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3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1000"/>
                                        <p:tgtEl>
                                          <p:spTgt spid="3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"/>
          <p:cNvSpPr/>
          <p:nvPr/>
        </p:nvSpPr>
        <p:spPr>
          <a:xfrm>
            <a:off x="2526480" y="838080"/>
            <a:ext cx="443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Verdana"/>
              </a:rPr>
              <a:t>Observed %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Verdana"/>
              </a:rPr>
              <a:t>Evolu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Verdana"/>
              </a:rPr>
              <a:t>Differenc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Verdana"/>
              </a:rPr>
              <a:t>Distance (PA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2590920" y="1541520"/>
            <a:ext cx="3886200" cy="51516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181a1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1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10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20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30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40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50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60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70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1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64000" indent="-2470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80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990000"/>
                </a:solidFill>
                <a:latin typeface="Courier New"/>
              </a:rPr>
              <a:t>2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10440" y="90360"/>
            <a:ext cx="91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00"/>
                </a:solidFill>
                <a:uFillTx/>
                <a:latin typeface="Times New Roman"/>
              </a:rPr>
              <a:t>Relationship between Observed difference and PAM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>
            <a:hlinkClick r:id="" action="ppaction://hlinkshowjump?jump=previousslide"/>
          </p:cNvPr>
          <p:cNvSpPr/>
          <p:nvPr/>
        </p:nvSpPr>
        <p:spPr>
          <a:xfrm>
            <a:off x="0" y="64738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>
            <a:hlinkClick r:id="" action="ppaction://hlinkshowjump?jump=nextslide"/>
          </p:cNvPr>
          <p:cNvSpPr/>
          <p:nvPr/>
        </p:nvSpPr>
        <p:spPr>
          <a:xfrm>
            <a:off x="380880" y="647388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3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"/>
          <p:cNvSpPr/>
          <p:nvPr/>
        </p:nvSpPr>
        <p:spPr>
          <a:xfrm>
            <a:off x="152280" y="4800600"/>
            <a:ext cx="3429000" cy="19227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The BLOSUM matrices are also computed from aligned families of prote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5" name=""/>
          <p:cNvGrpSpPr/>
          <p:nvPr/>
        </p:nvGrpSpPr>
        <p:grpSpPr>
          <a:xfrm>
            <a:off x="76320" y="1066680"/>
            <a:ext cx="9063360" cy="5479560"/>
            <a:chOff x="76320" y="1066680"/>
            <a:chExt cx="9063360" cy="5479560"/>
          </a:xfrm>
        </p:grpSpPr>
        <p:grpSp>
          <p:nvGrpSpPr>
            <p:cNvPr id="3066" name=""/>
            <p:cNvGrpSpPr/>
            <p:nvPr/>
          </p:nvGrpSpPr>
          <p:grpSpPr>
            <a:xfrm>
              <a:off x="76320" y="1066680"/>
              <a:ext cx="8991360" cy="5105520"/>
              <a:chOff x="76320" y="1066680"/>
              <a:chExt cx="8991360" cy="5105520"/>
            </a:xfrm>
          </p:grpSpPr>
          <p:grpSp>
            <p:nvGrpSpPr>
              <p:cNvPr id="3067" name=""/>
              <p:cNvGrpSpPr/>
              <p:nvPr/>
            </p:nvGrpSpPr>
            <p:grpSpPr>
              <a:xfrm>
                <a:off x="4648320" y="1143000"/>
                <a:ext cx="4419360" cy="4952880"/>
                <a:chOff x="4648320" y="1143000"/>
                <a:chExt cx="4419360" cy="4952880"/>
              </a:xfrm>
            </p:grpSpPr>
            <p:sp>
              <p:nvSpPr>
                <p:cNvPr id="3068" name=""/>
                <p:cNvSpPr/>
                <p:nvPr/>
              </p:nvSpPr>
              <p:spPr>
                <a:xfrm>
                  <a:off x="4648320" y="11430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4648320" y="14335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4648320" y="172548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4648320" y="20160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4648320" y="23083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4648320" y="259884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4648320" y="28908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4648320" y="31813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4648320" y="347328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4648320" y="37638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4648320" y="40561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4648320" y="434664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4648320" y="46386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4648320" y="49291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4648320" y="522144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4648320" y="551196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4648320" y="58039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4648320" y="609588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6" name=""/>
              <p:cNvGrpSpPr/>
              <p:nvPr/>
            </p:nvGrpSpPr>
            <p:grpSpPr>
              <a:xfrm>
                <a:off x="76320" y="1066680"/>
                <a:ext cx="4572000" cy="5105520"/>
                <a:chOff x="76320" y="1066680"/>
                <a:chExt cx="4572000" cy="5105520"/>
              </a:xfrm>
            </p:grpSpPr>
            <p:sp>
              <p:nvSpPr>
                <p:cNvPr id="3087" name=""/>
                <p:cNvSpPr/>
                <p:nvPr/>
              </p:nvSpPr>
              <p:spPr>
                <a:xfrm>
                  <a:off x="76320" y="3619440"/>
                  <a:ext cx="4419720" cy="0"/>
                </a:xfrm>
                <a:prstGeom prst="line">
                  <a:avLst/>
                </a:prstGeom>
                <a:ln w="442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4419720" y="1066680"/>
                  <a:ext cx="228600" cy="5105520"/>
                </a:xfrm>
                <a:custGeom>
                  <a:avLst/>
                  <a:gdLst>
                    <a:gd name="textAreaLeft" fmla="*/ 146160 w 228600"/>
                    <a:gd name="textAreaRight" fmla="*/ 228960 w 228600"/>
                    <a:gd name="textAreaTop" fmla="*/ 132840 h 5105520"/>
                    <a:gd name="textAreaBottom" fmla="*/ 4972680 h 5105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31680">
                  <a:solidFill>
                    <a:srgbClr val="ff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89" name=""/>
            <p:cNvSpPr/>
            <p:nvPr/>
          </p:nvSpPr>
          <p:spPr>
            <a:xfrm>
              <a:off x="856440" y="3648240"/>
              <a:ext cx="31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Original prote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569840" y="6086520"/>
              <a:ext cx="45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ligned current protei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1" name=""/>
          <p:cNvSpPr/>
          <p:nvPr/>
        </p:nvSpPr>
        <p:spPr>
          <a:xfrm>
            <a:off x="2054880" y="22860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The BLOSUM scoring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35840" y="4191120"/>
            <a:ext cx="4295520" cy="23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SQRGGKTVGYWSTDGYDFNDSKALRNGKFVGLALDEDNQSDLTDDRIKSWVAQLKSEFG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35840" y="6095880"/>
            <a:ext cx="4295520" cy="23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KDRGAKIVGSWSTDGYEFESSEAVVDGKFVGLALDLDNQSGKTDERVAAWLAQIAPEFG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0520" y="5143680"/>
            <a:ext cx="4295520" cy="231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90000"/>
                </a:solidFill>
                <a:latin typeface="Courier New"/>
              </a:rPr>
              <a:t>AKQGAKPVGFSNPDDYDYEESKSVRDGKFLGLPLDMVNDQIPMEKRVAGWVEAVVSETG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343400"/>
            <a:ext cx="0" cy="1828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4343400"/>
            <a:ext cx="0" cy="1828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4343400"/>
            <a:ext cx="0" cy="1828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4343400"/>
            <a:ext cx="0" cy="182880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676160" y="3276360"/>
            <a:ext cx="3886560" cy="1905120"/>
            <a:chOff x="1676160" y="3276360"/>
            <a:chExt cx="3886560" cy="1905120"/>
          </a:xfrm>
        </p:grpSpPr>
        <p:sp>
          <p:nvSpPr>
            <p:cNvPr id="57" name=""/>
            <p:cNvSpPr/>
            <p:nvPr/>
          </p:nvSpPr>
          <p:spPr>
            <a:xfrm flipV="1">
              <a:off x="5562720" y="3276360"/>
              <a:ext cx="0" cy="914040"/>
            </a:xfrm>
            <a:prstGeom prst="line">
              <a:avLst/>
            </a:prstGeom>
            <a:ln w="5724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676160" y="3276720"/>
              <a:ext cx="3886200" cy="0"/>
            </a:xfrm>
            <a:prstGeom prst="line">
              <a:avLst/>
            </a:prstGeom>
            <a:ln w="5724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6520" y="3276720"/>
              <a:ext cx="0" cy="1904760"/>
            </a:xfrm>
            <a:prstGeom prst="line">
              <a:avLst/>
            </a:prstGeom>
            <a:ln w="57240">
              <a:solidFill>
                <a:srgbClr val="ff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 flipV="1">
            <a:off x="4191120" y="4419720"/>
            <a:ext cx="761760" cy="761760"/>
          </a:xfrm>
          <a:prstGeom prst="line">
            <a:avLst/>
          </a:prstGeom>
          <a:ln cap="rnd" w="3816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5334120"/>
            <a:ext cx="761760" cy="761760"/>
          </a:xfrm>
          <a:prstGeom prst="line">
            <a:avLst/>
          </a:prstGeom>
          <a:ln cap="rnd" w="3816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772400" y="4648320"/>
            <a:ext cx="914400" cy="1295280"/>
            <a:chOff x="7772400" y="4648320"/>
            <a:chExt cx="914400" cy="1295280"/>
          </a:xfrm>
        </p:grpSpPr>
        <p:sp>
          <p:nvSpPr>
            <p:cNvPr id="63" name=""/>
            <p:cNvSpPr/>
            <p:nvPr/>
          </p:nvSpPr>
          <p:spPr>
            <a:xfrm>
              <a:off x="7772400" y="4648320"/>
              <a:ext cx="914400" cy="12952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50160" y="4728960"/>
              <a:ext cx="785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990000"/>
                  </a:solidFill>
                  <a:latin typeface="Times New Roman"/>
                </a:rPr>
                <a:t>N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524960" y="0"/>
            <a:ext cx="60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990000"/>
                </a:solidFill>
                <a:uFillTx/>
                <a:latin typeface="Times New Roman"/>
              </a:rPr>
              <a:t>Comparing pairs of sequ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600" y="6508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Times New Roman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15480" y="658800"/>
            <a:ext cx="593532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imes New Roman"/>
              </a:rPr>
              <a:t>To align two sequences in a biologically logical fash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13320" y="1050840"/>
            <a:ext cx="666396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imes New Roman"/>
              </a:rPr>
              <a:t>To generate a score representing the “quality” of the alig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0" y="19810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Times New Roman"/>
              </a:rPr>
              <a:t>Assump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16200" y="1965240"/>
            <a:ext cx="492948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imes New Roman"/>
              </a:rPr>
              <a:t>The proteins being compared are homologo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12320" y="2286000"/>
            <a:ext cx="69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{so differences between the proteins are exclusively due to evolutionary processe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32040" y="1415880"/>
            <a:ext cx="474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00"/>
                </a:solidFill>
                <a:latin typeface="Times New Roman"/>
              </a:rPr>
              <a:t>{Sadly, the computed score has little absolute meaning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"/>
          <p:cNvSpPr/>
          <p:nvPr/>
        </p:nvSpPr>
        <p:spPr>
          <a:xfrm>
            <a:off x="2054880" y="22860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The BLOSUM scoring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685800" y="838080"/>
            <a:ext cx="1905120" cy="5214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4724280" y="838080"/>
            <a:ext cx="1447920" cy="5214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6858000" y="838080"/>
            <a:ext cx="1905120" cy="5214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6" name=""/>
          <p:cNvGrpSpPr/>
          <p:nvPr/>
        </p:nvGrpSpPr>
        <p:grpSpPr>
          <a:xfrm>
            <a:off x="533520" y="914400"/>
            <a:ext cx="8533800" cy="4952880"/>
            <a:chOff x="533520" y="914400"/>
            <a:chExt cx="8533800" cy="4952880"/>
          </a:xfrm>
        </p:grpSpPr>
        <p:sp>
          <p:nvSpPr>
            <p:cNvPr id="3097" name=""/>
            <p:cNvSpPr/>
            <p:nvPr/>
          </p:nvSpPr>
          <p:spPr>
            <a:xfrm>
              <a:off x="533520" y="91440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533520" y="120492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533520" y="149688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33520" y="178740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33520" y="207972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533520" y="237024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533520" y="266220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533520" y="295272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33520" y="324468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33520" y="353520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33520" y="382752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33520" y="411804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33520" y="441000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33520" y="470052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33520" y="499284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33520" y="528336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33520" y="557532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33520" y="5867280"/>
              <a:ext cx="8533800" cy="0"/>
            </a:xfrm>
            <a:prstGeom prst="line">
              <a:avLst/>
            </a:prstGeom>
            <a:ln w="44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5" name=""/>
          <p:cNvSpPr/>
          <p:nvPr/>
        </p:nvSpPr>
        <p:spPr>
          <a:xfrm>
            <a:off x="2743200" y="762120"/>
            <a:ext cx="5335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3657600" y="1295280"/>
            <a:ext cx="3808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3733920" y="2514600"/>
            <a:ext cx="30456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6400800" y="3048120"/>
            <a:ext cx="3049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6172200" y="1066680"/>
            <a:ext cx="5335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8763120" y="3429000"/>
            <a:ext cx="3808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3124080" y="3429000"/>
            <a:ext cx="5335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3962520" y="4267080"/>
            <a:ext cx="53316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2971800" y="5105520"/>
            <a:ext cx="3808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4191120" y="5715000"/>
            <a:ext cx="30456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5" name=""/>
          <p:cNvGrpSpPr/>
          <p:nvPr/>
        </p:nvGrpSpPr>
        <p:grpSpPr>
          <a:xfrm>
            <a:off x="735480" y="6019920"/>
            <a:ext cx="8273160" cy="672840"/>
            <a:chOff x="735480" y="6019920"/>
            <a:chExt cx="8273160" cy="672840"/>
          </a:xfrm>
        </p:grpSpPr>
        <p:sp>
          <p:nvSpPr>
            <p:cNvPr id="3126" name=""/>
            <p:cNvSpPr/>
            <p:nvPr/>
          </p:nvSpPr>
          <p:spPr>
            <a:xfrm>
              <a:off x="735480" y="6324480"/>
              <a:ext cx="8273160" cy="36828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Courier New"/>
                </a:rPr>
                <a:t>Regions of high conservation, stored in the BLOCKS data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7" name=""/>
            <p:cNvGrpSpPr/>
            <p:nvPr/>
          </p:nvGrpSpPr>
          <p:grpSpPr>
            <a:xfrm>
              <a:off x="2590920" y="6019920"/>
              <a:ext cx="4952880" cy="304560"/>
              <a:chOff x="2590920" y="6019920"/>
              <a:chExt cx="4952880" cy="304560"/>
            </a:xfrm>
          </p:grpSpPr>
          <p:sp>
            <p:nvSpPr>
              <p:cNvPr id="3128" name=""/>
              <p:cNvSpPr/>
              <p:nvPr/>
            </p:nvSpPr>
            <p:spPr>
              <a:xfrm flipH="1" flipV="1">
                <a:off x="2590920" y="6019920"/>
                <a:ext cx="914400" cy="304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4114800" y="6019920"/>
                <a:ext cx="914400" cy="304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V="1">
                <a:off x="5638680" y="6019920"/>
                <a:ext cx="1905120" cy="304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5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5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5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6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7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"/>
          <p:cNvSpPr/>
          <p:nvPr/>
        </p:nvSpPr>
        <p:spPr>
          <a:xfrm>
            <a:off x="4572000" y="2781360"/>
            <a:ext cx="144360" cy="934920"/>
          </a:xfrm>
          <a:custGeom>
            <a:avLst/>
            <a:gdLst/>
            <a:ahLst/>
            <a:rect l="l" t="t" r="r" b="b"/>
            <a:pathLst>
              <a:path w="1" h="970">
                <a:moveTo>
                  <a:pt x="0" y="0"/>
                </a:moveTo>
                <a:lnTo>
                  <a:pt x="0" y="970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4140360" y="162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4140360" y="25574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4140360" y="357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4140360" y="2060640"/>
            <a:ext cx="1440" cy="434880"/>
          </a:xfrm>
          <a:custGeom>
            <a:avLst/>
            <a:gdLst/>
            <a:ahLst/>
            <a:rect l="l" t="t" r="r" b="b"/>
            <a:pathLst>
              <a:path w="1" h="274">
                <a:moveTo>
                  <a:pt x="0" y="0"/>
                </a:moveTo>
                <a:lnTo>
                  <a:pt x="1" y="274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6" name=""/>
          <p:cNvGrpSpPr/>
          <p:nvPr/>
        </p:nvGrpSpPr>
        <p:grpSpPr>
          <a:xfrm>
            <a:off x="3780000" y="1052640"/>
            <a:ext cx="1366560" cy="3024000"/>
            <a:chOff x="3780000" y="1052640"/>
            <a:chExt cx="1366560" cy="3024000"/>
          </a:xfrm>
        </p:grpSpPr>
        <p:sp>
          <p:nvSpPr>
            <p:cNvPr id="3137" name=""/>
            <p:cNvSpPr/>
            <p:nvPr/>
          </p:nvSpPr>
          <p:spPr>
            <a:xfrm>
              <a:off x="3851280" y="11253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LO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3780000" y="1052640"/>
              <a:ext cx="1296720" cy="30240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9" name=""/>
          <p:cNvSpPr/>
          <p:nvPr/>
        </p:nvSpPr>
        <p:spPr>
          <a:xfrm>
            <a:off x="1332000" y="162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1332000" y="25574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Arial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1332000" y="35672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i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2627280" y="1622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2627280" y="2557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2627280" y="35672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5" name=""/>
          <p:cNvGrpSpPr/>
          <p:nvPr/>
        </p:nvGrpSpPr>
        <p:grpSpPr>
          <a:xfrm>
            <a:off x="2340000" y="1052640"/>
            <a:ext cx="1081080" cy="3024000"/>
            <a:chOff x="2340000" y="1052640"/>
            <a:chExt cx="1081080" cy="3024000"/>
          </a:xfrm>
        </p:grpSpPr>
        <p:sp>
          <p:nvSpPr>
            <p:cNvPr id="3146" name=""/>
            <p:cNvSpPr/>
            <p:nvPr/>
          </p:nvSpPr>
          <p:spPr>
            <a:xfrm>
              <a:off x="2556000" y="1125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340000" y="1052640"/>
              <a:ext cx="1079640" cy="3024000"/>
            </a:xfrm>
            <a:prstGeom prst="rect">
              <a:avLst/>
            </a:prstGeom>
            <a:noFill/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8" name=""/>
          <p:cNvSpPr/>
          <p:nvPr/>
        </p:nvSpPr>
        <p:spPr>
          <a:xfrm>
            <a:off x="3132000" y="2781360"/>
            <a:ext cx="144720" cy="934920"/>
          </a:xfrm>
          <a:custGeom>
            <a:avLst/>
            <a:gdLst/>
            <a:ahLst/>
            <a:rect l="l" t="t" r="r" b="b"/>
            <a:pathLst>
              <a:path w="1" h="970">
                <a:moveTo>
                  <a:pt x="0" y="0"/>
                </a:moveTo>
                <a:lnTo>
                  <a:pt x="0" y="970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2700360" y="2060640"/>
            <a:ext cx="1440" cy="434880"/>
          </a:xfrm>
          <a:custGeom>
            <a:avLst/>
            <a:gdLst/>
            <a:ahLst/>
            <a:rect l="l" t="t" r="r" b="b"/>
            <a:pathLst>
              <a:path w="1" h="274">
                <a:moveTo>
                  <a:pt x="0" y="0"/>
                </a:moveTo>
                <a:lnTo>
                  <a:pt x="1" y="274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3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1000"/>
                                        <p:tgtEl>
                                          <p:spTgt spid="3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1000"/>
                                        <p:tgtEl>
                                          <p:spTgt spid="3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1000"/>
                                        <p:tgtEl>
                                          <p:spTgt spid="3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3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"/>
          <p:cNvSpPr/>
          <p:nvPr/>
        </p:nvSpPr>
        <p:spPr>
          <a:xfrm>
            <a:off x="605520" y="350532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Courier New"/>
              </a:rPr>
              <a:t>ABEERNALEDLAGERDFWGALSTOUTWRARWA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1635840" y="30492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Insertions/Deletions =&gt;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605880" y="289548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Courier New"/>
              </a:rPr>
              <a:t>ACBEERGYALEDILAGERAFGSTOUTFAWA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1635840" y="30492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Insertions/Deletions =&gt;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1066680" y="4191120"/>
            <a:ext cx="685800" cy="0"/>
          </a:xfrm>
          <a:prstGeom prst="line">
            <a:avLst/>
          </a:prstGeom>
          <a:ln w="5079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1066680" y="2590920"/>
            <a:ext cx="685800" cy="0"/>
          </a:xfrm>
          <a:prstGeom prst="line">
            <a:avLst/>
          </a:prstGeom>
          <a:ln w="5079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1066680" y="2819520"/>
            <a:ext cx="6858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605520" y="2895480"/>
            <a:ext cx="6947280" cy="1069560"/>
            <a:chOff x="605520" y="2895480"/>
            <a:chExt cx="6947280" cy="1069560"/>
          </a:xfrm>
        </p:grpSpPr>
        <p:sp>
          <p:nvSpPr>
            <p:cNvPr id="3162" name=""/>
            <p:cNvSpPr/>
            <p:nvPr/>
          </p:nvSpPr>
          <p:spPr>
            <a:xfrm>
              <a:off x="605520" y="3505320"/>
              <a:ext cx="694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 </a:t>
              </a: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BEERNALEDLAGERDFWGALSTOUTWRARWA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605880" y="2895480"/>
              <a:ext cx="63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CBEERGYALEDILAGERAFGSTOUTFAWA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1635840" y="30492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Insertions/Deletions =&gt;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2133720" y="2590920"/>
            <a:ext cx="795240" cy="0"/>
          </a:xfrm>
          <a:prstGeom prst="line">
            <a:avLst/>
          </a:prstGeom>
          <a:ln w="507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2133720" y="4191120"/>
            <a:ext cx="795240" cy="0"/>
          </a:xfrm>
          <a:prstGeom prst="line">
            <a:avLst/>
          </a:prstGeom>
          <a:ln w="507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2141640" y="2819520"/>
            <a:ext cx="77616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0" name=""/>
          <p:cNvGrpSpPr/>
          <p:nvPr/>
        </p:nvGrpSpPr>
        <p:grpSpPr>
          <a:xfrm>
            <a:off x="605160" y="2590920"/>
            <a:ext cx="7130160" cy="1600200"/>
            <a:chOff x="605160" y="2590920"/>
            <a:chExt cx="7130160" cy="1600200"/>
          </a:xfrm>
        </p:grpSpPr>
        <p:sp>
          <p:nvSpPr>
            <p:cNvPr id="3171" name=""/>
            <p:cNvSpPr/>
            <p:nvPr/>
          </p:nvSpPr>
          <p:spPr>
            <a:xfrm>
              <a:off x="1066680" y="2819520"/>
              <a:ext cx="685800" cy="114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605160" y="3505320"/>
              <a:ext cx="713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 </a:t>
              </a: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BEERN-ALEDLAGERDFWGALSTOUTWRARWA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066680" y="41911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066680" y="25909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05880" y="2895480"/>
              <a:ext cx="63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CBEERGYALEDILAGERAFGSTOUTFAWA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1635840" y="30492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Insertions/Deletions =&gt;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3124080" y="2819520"/>
            <a:ext cx="9144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0" name=""/>
          <p:cNvGrpSpPr/>
          <p:nvPr/>
        </p:nvGrpSpPr>
        <p:grpSpPr>
          <a:xfrm>
            <a:off x="605160" y="2590920"/>
            <a:ext cx="7313040" cy="1600200"/>
            <a:chOff x="605160" y="2590920"/>
            <a:chExt cx="7313040" cy="1600200"/>
          </a:xfrm>
        </p:grpSpPr>
        <p:sp>
          <p:nvSpPr>
            <p:cNvPr id="3181" name=""/>
            <p:cNvSpPr/>
            <p:nvPr/>
          </p:nvSpPr>
          <p:spPr>
            <a:xfrm>
              <a:off x="1066680" y="2819520"/>
              <a:ext cx="685800" cy="114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141640" y="2819520"/>
              <a:ext cx="776160" cy="1143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2133720" y="2590920"/>
              <a:ext cx="79524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133720" y="4191120"/>
              <a:ext cx="79524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605160" y="3505320"/>
              <a:ext cx="731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 </a:t>
              </a: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BEERN-ALED-LAGERDFWGALSTOUTWRARWA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066680" y="41911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066680" y="25909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605880" y="2895480"/>
              <a:ext cx="63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CBEERGYALEDILAGERAFGSTOUTFAWA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9" name=""/>
          <p:cNvSpPr/>
          <p:nvPr/>
        </p:nvSpPr>
        <p:spPr>
          <a:xfrm>
            <a:off x="3124080" y="4191120"/>
            <a:ext cx="914400" cy="0"/>
          </a:xfrm>
          <a:prstGeom prst="line">
            <a:avLst/>
          </a:prstGeom>
          <a:ln w="5079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3124080" y="2590920"/>
            <a:ext cx="914400" cy="0"/>
          </a:xfrm>
          <a:prstGeom prst="line">
            <a:avLst/>
          </a:prstGeom>
          <a:ln w="5079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1635840" y="30492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Insertions/Deletions =&gt;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4" name=""/>
          <p:cNvGrpSpPr/>
          <p:nvPr/>
        </p:nvGrpSpPr>
        <p:grpSpPr>
          <a:xfrm>
            <a:off x="605160" y="2590920"/>
            <a:ext cx="7313040" cy="1600200"/>
            <a:chOff x="605160" y="2590920"/>
            <a:chExt cx="7313040" cy="1600200"/>
          </a:xfrm>
        </p:grpSpPr>
        <p:grpSp>
          <p:nvGrpSpPr>
            <p:cNvPr id="3195" name=""/>
            <p:cNvGrpSpPr/>
            <p:nvPr/>
          </p:nvGrpSpPr>
          <p:grpSpPr>
            <a:xfrm>
              <a:off x="1066680" y="2819520"/>
              <a:ext cx="1851120" cy="1143000"/>
              <a:chOff x="1066680" y="2819520"/>
              <a:chExt cx="1851120" cy="1143000"/>
            </a:xfrm>
          </p:grpSpPr>
          <p:sp>
            <p:nvSpPr>
              <p:cNvPr id="3196" name=""/>
              <p:cNvSpPr/>
              <p:nvPr/>
            </p:nvSpPr>
            <p:spPr>
              <a:xfrm>
                <a:off x="1066680" y="2819520"/>
                <a:ext cx="685800" cy="1143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2141640" y="2819520"/>
                <a:ext cx="776160" cy="1143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8" name=""/>
            <p:cNvSpPr/>
            <p:nvPr/>
          </p:nvSpPr>
          <p:spPr>
            <a:xfrm>
              <a:off x="3124080" y="2819520"/>
              <a:ext cx="914400" cy="1143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133720" y="2590920"/>
              <a:ext cx="79524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133720" y="4191120"/>
              <a:ext cx="79524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05160" y="3505320"/>
              <a:ext cx="731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 </a:t>
              </a: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BEERN-ALED-LAGERDFWGALSTOUTWRARWA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1066680" y="41911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066680" y="25909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05880" y="289548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CBEERGYALEDILAGERAFG-STOUTFAWA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124080" y="41911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124080" y="25909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1635840" y="30492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Insertions/Deletions =&gt;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0" name=""/>
          <p:cNvGrpSpPr/>
          <p:nvPr/>
        </p:nvGrpSpPr>
        <p:grpSpPr>
          <a:xfrm>
            <a:off x="605160" y="2590920"/>
            <a:ext cx="7313040" cy="1600200"/>
            <a:chOff x="605160" y="2590920"/>
            <a:chExt cx="7313040" cy="1600200"/>
          </a:xfrm>
        </p:grpSpPr>
        <p:grpSp>
          <p:nvGrpSpPr>
            <p:cNvPr id="3211" name=""/>
            <p:cNvGrpSpPr/>
            <p:nvPr/>
          </p:nvGrpSpPr>
          <p:grpSpPr>
            <a:xfrm>
              <a:off x="1066680" y="2819520"/>
              <a:ext cx="1851120" cy="1143000"/>
              <a:chOff x="1066680" y="2819520"/>
              <a:chExt cx="1851120" cy="1143000"/>
            </a:xfrm>
          </p:grpSpPr>
          <p:sp>
            <p:nvSpPr>
              <p:cNvPr id="3212" name=""/>
              <p:cNvSpPr/>
              <p:nvPr/>
            </p:nvSpPr>
            <p:spPr>
              <a:xfrm>
                <a:off x="1066680" y="2819520"/>
                <a:ext cx="685800" cy="1143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2141640" y="2819520"/>
                <a:ext cx="776160" cy="1143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4" name=""/>
            <p:cNvSpPr/>
            <p:nvPr/>
          </p:nvSpPr>
          <p:spPr>
            <a:xfrm>
              <a:off x="3124080" y="2819520"/>
              <a:ext cx="914400" cy="1143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133720" y="2590920"/>
              <a:ext cx="79524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133720" y="4191120"/>
              <a:ext cx="79524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05160" y="3505320"/>
              <a:ext cx="731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 </a:t>
              </a: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BEERN-ALED-LAGERDFWGALSTOUTWRARWA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1066680" y="41911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1066680" y="25909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05520" y="2895480"/>
              <a:ext cx="67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CBEERGYALEDILAGERAFG--STOUTFAWA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3124080" y="41911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3124080" y="25909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"/>
          <p:cNvSpPr/>
          <p:nvPr/>
        </p:nvSpPr>
        <p:spPr>
          <a:xfrm>
            <a:off x="5105520" y="2819520"/>
            <a:ext cx="9144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5105520" y="4191120"/>
            <a:ext cx="914400" cy="0"/>
          </a:xfrm>
          <a:prstGeom prst="line">
            <a:avLst/>
          </a:prstGeom>
          <a:ln w="5079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5105520" y="2590920"/>
            <a:ext cx="914400" cy="0"/>
          </a:xfrm>
          <a:prstGeom prst="line">
            <a:avLst/>
          </a:prstGeom>
          <a:ln w="5079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1635840" y="30492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Insertions/Deletions =&gt;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9" name=""/>
          <p:cNvGrpSpPr/>
          <p:nvPr/>
        </p:nvGrpSpPr>
        <p:grpSpPr>
          <a:xfrm>
            <a:off x="605160" y="2590920"/>
            <a:ext cx="7313040" cy="1600200"/>
            <a:chOff x="605160" y="2590920"/>
            <a:chExt cx="7313040" cy="1600200"/>
          </a:xfrm>
        </p:grpSpPr>
        <p:grpSp>
          <p:nvGrpSpPr>
            <p:cNvPr id="3230" name=""/>
            <p:cNvGrpSpPr/>
            <p:nvPr/>
          </p:nvGrpSpPr>
          <p:grpSpPr>
            <a:xfrm>
              <a:off x="1066680" y="2819520"/>
              <a:ext cx="1851120" cy="1143000"/>
              <a:chOff x="1066680" y="2819520"/>
              <a:chExt cx="1851120" cy="1143000"/>
            </a:xfrm>
          </p:grpSpPr>
          <p:sp>
            <p:nvSpPr>
              <p:cNvPr id="3231" name=""/>
              <p:cNvSpPr/>
              <p:nvPr/>
            </p:nvSpPr>
            <p:spPr>
              <a:xfrm>
                <a:off x="1066680" y="2819520"/>
                <a:ext cx="685800" cy="1143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2141640" y="2819520"/>
                <a:ext cx="776160" cy="1143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3" name=""/>
            <p:cNvSpPr/>
            <p:nvPr/>
          </p:nvSpPr>
          <p:spPr>
            <a:xfrm>
              <a:off x="3124080" y="2819520"/>
              <a:ext cx="914400" cy="1143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133720" y="2590920"/>
              <a:ext cx="79524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133720" y="4191120"/>
              <a:ext cx="79524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05160" y="3505320"/>
              <a:ext cx="731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 </a:t>
              </a: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BEERN-ALED-LAGERDFWGALSTOUTWRARWA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066680" y="41911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1066680" y="25909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605520" y="2895480"/>
              <a:ext cx="694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CBEERGYALEDILAGERAFG---STOUTFAWA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124080" y="41911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124080" y="25909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1635840" y="30492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Insertions/Deletions =&gt;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5" name=""/>
          <p:cNvGrpSpPr/>
          <p:nvPr/>
        </p:nvGrpSpPr>
        <p:grpSpPr>
          <a:xfrm>
            <a:off x="605160" y="2590920"/>
            <a:ext cx="7313040" cy="1600200"/>
            <a:chOff x="605160" y="2590920"/>
            <a:chExt cx="7313040" cy="1600200"/>
          </a:xfrm>
        </p:grpSpPr>
        <p:sp>
          <p:nvSpPr>
            <p:cNvPr id="3246" name=""/>
            <p:cNvSpPr/>
            <p:nvPr/>
          </p:nvSpPr>
          <p:spPr>
            <a:xfrm>
              <a:off x="5105520" y="2819520"/>
              <a:ext cx="914400" cy="1143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105520" y="4191120"/>
              <a:ext cx="914400" cy="0"/>
            </a:xfrm>
            <a:prstGeom prst="line">
              <a:avLst/>
            </a:prstGeom>
            <a:ln w="5079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105520" y="2590920"/>
              <a:ext cx="914400" cy="0"/>
            </a:xfrm>
            <a:prstGeom prst="line">
              <a:avLst/>
            </a:prstGeom>
            <a:ln w="5079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066680" y="2819520"/>
              <a:ext cx="685800" cy="114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2141640" y="2819520"/>
              <a:ext cx="776160" cy="1143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3124080" y="2819520"/>
              <a:ext cx="914400" cy="1143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133720" y="2590920"/>
              <a:ext cx="79524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2133720" y="4191120"/>
              <a:ext cx="79524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605160" y="3505320"/>
              <a:ext cx="731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 </a:t>
              </a: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BEERN-ALED-LAGERDFWGALSTOUTWRARWA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066680" y="41911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066680" y="25909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605160" y="2895480"/>
              <a:ext cx="713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CBEERGYALEDILAGERAFG---STOUTFA-WA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124080" y="41911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124080" y="25909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114800" y="2819520"/>
            <a:ext cx="9144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8320" y="350532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Courier New"/>
              </a:rPr>
              <a:t>ABEERNALEDLAGERDFWGALSTOUTWRARWA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590920"/>
            <a:ext cx="914400" cy="0"/>
          </a:xfrm>
          <a:prstGeom prst="line">
            <a:avLst/>
          </a:prstGeom>
          <a:ln w="5079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4191120"/>
            <a:ext cx="914400" cy="0"/>
          </a:xfrm>
          <a:prstGeom prst="line">
            <a:avLst/>
          </a:prstGeom>
          <a:ln w="5079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5079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191120"/>
            <a:ext cx="685800" cy="0"/>
          </a:xfrm>
          <a:prstGeom prst="line">
            <a:avLst/>
          </a:prstGeom>
          <a:ln w="5079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590920"/>
            <a:ext cx="685800" cy="0"/>
          </a:xfrm>
          <a:prstGeom prst="line">
            <a:avLst/>
          </a:prstGeom>
          <a:ln w="507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4191120"/>
            <a:ext cx="685800" cy="0"/>
          </a:xfrm>
          <a:prstGeom prst="line">
            <a:avLst/>
          </a:prstGeom>
          <a:ln w="507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590920"/>
            <a:ext cx="914400" cy="0"/>
          </a:xfrm>
          <a:prstGeom prst="line">
            <a:avLst/>
          </a:prstGeom>
          <a:ln w="5079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91120"/>
            <a:ext cx="914400" cy="0"/>
          </a:xfrm>
          <a:prstGeom prst="line">
            <a:avLst/>
          </a:prstGeom>
          <a:ln w="5079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2590920"/>
            <a:ext cx="914400" cy="0"/>
          </a:xfrm>
          <a:prstGeom prst="line">
            <a:avLst/>
          </a:prstGeom>
          <a:ln w="5079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4191120"/>
            <a:ext cx="914400" cy="0"/>
          </a:xfrm>
          <a:prstGeom prst="line">
            <a:avLst/>
          </a:prstGeom>
          <a:ln w="5079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8680" y="289548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Courier New"/>
              </a:rPr>
              <a:t>ACBEERGYALEDILAGERAFGSTOUTFAWA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"/>
          <p:cNvSpPr/>
          <p:nvPr/>
        </p:nvSpPr>
        <p:spPr>
          <a:xfrm>
            <a:off x="6705720" y="2819520"/>
            <a:ext cx="9144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6705720" y="4191120"/>
            <a:ext cx="939600" cy="0"/>
          </a:xfrm>
          <a:prstGeom prst="line">
            <a:avLst/>
          </a:prstGeom>
          <a:ln w="5079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6705720" y="2590920"/>
            <a:ext cx="914400" cy="0"/>
          </a:xfrm>
          <a:prstGeom prst="line">
            <a:avLst/>
          </a:prstGeom>
          <a:ln w="5079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1635840" y="30492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Insertions/Deletions =&gt;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6" name=""/>
          <p:cNvGrpSpPr/>
          <p:nvPr/>
        </p:nvGrpSpPr>
        <p:grpSpPr>
          <a:xfrm>
            <a:off x="605160" y="2590920"/>
            <a:ext cx="7313040" cy="1600200"/>
            <a:chOff x="605160" y="2590920"/>
            <a:chExt cx="7313040" cy="1600200"/>
          </a:xfrm>
        </p:grpSpPr>
        <p:sp>
          <p:nvSpPr>
            <p:cNvPr id="3267" name=""/>
            <p:cNvSpPr/>
            <p:nvPr/>
          </p:nvSpPr>
          <p:spPr>
            <a:xfrm>
              <a:off x="5105520" y="2819520"/>
              <a:ext cx="914400" cy="114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105520" y="4191120"/>
              <a:ext cx="914400" cy="0"/>
            </a:xfrm>
            <a:prstGeom prst="line">
              <a:avLst/>
            </a:prstGeom>
            <a:ln w="5079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105520" y="2590920"/>
              <a:ext cx="914400" cy="0"/>
            </a:xfrm>
            <a:prstGeom prst="line">
              <a:avLst/>
            </a:prstGeom>
            <a:ln w="5079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066680" y="2819520"/>
              <a:ext cx="685800" cy="1143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141640" y="2819520"/>
              <a:ext cx="776160" cy="1143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124080" y="2819520"/>
              <a:ext cx="914400" cy="1143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133720" y="2590920"/>
              <a:ext cx="79524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133720" y="4191120"/>
              <a:ext cx="79524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05160" y="3505320"/>
              <a:ext cx="731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 </a:t>
              </a: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BEERN-ALED-LAGERDFWGALSTOUTWRARWA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066680" y="41911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1066680" y="25909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605160" y="2895480"/>
              <a:ext cx="731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CBEERGYALEDILAGERAFG---STOUTFA--WA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3124080" y="41911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3124080" y="25909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"/>
          <p:cNvSpPr/>
          <p:nvPr/>
        </p:nvSpPr>
        <p:spPr>
          <a:xfrm flipV="1">
            <a:off x="4614840" y="144756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307600" y="1066680"/>
            <a:ext cx="4707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urier New"/>
              </a:rPr>
              <a:t>?????? – but adds 12 to the 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5" name=""/>
          <p:cNvGrpSpPr/>
          <p:nvPr/>
        </p:nvGrpSpPr>
        <p:grpSpPr>
          <a:xfrm>
            <a:off x="605160" y="2590920"/>
            <a:ext cx="7313040" cy="1600200"/>
            <a:chOff x="605160" y="2590920"/>
            <a:chExt cx="7313040" cy="1600200"/>
          </a:xfrm>
        </p:grpSpPr>
        <p:sp>
          <p:nvSpPr>
            <p:cNvPr id="3286" name=""/>
            <p:cNvSpPr/>
            <p:nvPr/>
          </p:nvSpPr>
          <p:spPr>
            <a:xfrm>
              <a:off x="6705720" y="2819520"/>
              <a:ext cx="914400" cy="1143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6705720" y="4191120"/>
              <a:ext cx="939600" cy="0"/>
            </a:xfrm>
            <a:prstGeom prst="line">
              <a:avLst/>
            </a:prstGeom>
            <a:ln w="5079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6705720" y="2590920"/>
              <a:ext cx="914400" cy="0"/>
            </a:xfrm>
            <a:prstGeom prst="line">
              <a:avLst/>
            </a:prstGeom>
            <a:ln w="5079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5105520" y="2819520"/>
              <a:ext cx="914400" cy="114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105520" y="4191120"/>
              <a:ext cx="914400" cy="0"/>
            </a:xfrm>
            <a:prstGeom prst="line">
              <a:avLst/>
            </a:prstGeom>
            <a:ln w="5079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105520" y="2590920"/>
              <a:ext cx="914400" cy="0"/>
            </a:xfrm>
            <a:prstGeom prst="line">
              <a:avLst/>
            </a:prstGeom>
            <a:ln w="5079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1066680" y="2819520"/>
              <a:ext cx="685800" cy="1143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141640" y="2819520"/>
              <a:ext cx="776160" cy="1143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124080" y="2819520"/>
              <a:ext cx="914400" cy="1143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133720" y="2590920"/>
              <a:ext cx="79524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133720" y="4191120"/>
              <a:ext cx="79524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605160" y="3505320"/>
              <a:ext cx="731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 </a:t>
              </a: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BEERN-ALED-LAGERDFWGALSTOUTWRARWA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066680" y="41911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066680" y="25909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605160" y="2895480"/>
              <a:ext cx="731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CBEERGYALEDILAGERAF-G--STOUTFA--WA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124080" y="41911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124080" y="25909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3" name=""/>
          <p:cNvSpPr/>
          <p:nvPr/>
        </p:nvSpPr>
        <p:spPr>
          <a:xfrm>
            <a:off x="7132680" y="914400"/>
            <a:ext cx="170460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urier New"/>
              </a:rPr>
              <a:t>G&lt;-&gt;W = 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urier New"/>
              </a:rPr>
              <a:t>G&lt;-&gt;G = +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1635840" y="30492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Insertions/Deletions =&gt;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300" fill="hold"/>
                                        <p:tgtEl>
                                          <p:spTgt spid="3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" fill="hold"/>
                                        <p:tgtEl>
                                          <p:spTgt spid="3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9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7" name=""/>
          <p:cNvGrpSpPr/>
          <p:nvPr/>
        </p:nvGrpSpPr>
        <p:grpSpPr>
          <a:xfrm>
            <a:off x="605160" y="1066680"/>
            <a:ext cx="7313040" cy="3124440"/>
            <a:chOff x="605160" y="1066680"/>
            <a:chExt cx="7313040" cy="3124440"/>
          </a:xfrm>
        </p:grpSpPr>
        <p:sp>
          <p:nvSpPr>
            <p:cNvPr id="3308" name=""/>
            <p:cNvSpPr/>
            <p:nvPr/>
          </p:nvSpPr>
          <p:spPr>
            <a:xfrm flipV="1">
              <a:off x="4614840" y="1447560"/>
              <a:ext cx="0" cy="152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307600" y="1066680"/>
              <a:ext cx="47070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Courier New"/>
                </a:rPr>
                <a:t>?????? – but adds 12 to the s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6705720" y="2819520"/>
              <a:ext cx="914400" cy="1143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6705720" y="4191120"/>
              <a:ext cx="939600" cy="0"/>
            </a:xfrm>
            <a:prstGeom prst="line">
              <a:avLst/>
            </a:prstGeom>
            <a:ln w="5079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6705720" y="2590920"/>
              <a:ext cx="914400" cy="0"/>
            </a:xfrm>
            <a:prstGeom prst="line">
              <a:avLst/>
            </a:prstGeom>
            <a:ln w="5079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105520" y="2819520"/>
              <a:ext cx="914400" cy="114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105520" y="4191120"/>
              <a:ext cx="914400" cy="0"/>
            </a:xfrm>
            <a:prstGeom prst="line">
              <a:avLst/>
            </a:prstGeom>
            <a:ln w="5079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105520" y="2590920"/>
              <a:ext cx="914400" cy="0"/>
            </a:xfrm>
            <a:prstGeom prst="line">
              <a:avLst/>
            </a:prstGeom>
            <a:ln w="5079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1066680" y="2819520"/>
              <a:ext cx="685800" cy="1143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141640" y="2819520"/>
              <a:ext cx="776160" cy="1143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3124080" y="2819520"/>
              <a:ext cx="914400" cy="1143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133720" y="2590920"/>
              <a:ext cx="79524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133720" y="4191120"/>
              <a:ext cx="79524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605160" y="3505320"/>
              <a:ext cx="731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-BEERN-ALED-LAGERDFWGALSTOUTWRARWA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1066680" y="41911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1066680" y="25909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605160" y="2895480"/>
              <a:ext cx="731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CBEERGYALEDILAGERAF-G--STOUTFA--WA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124080" y="41911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124080" y="25909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7" name=""/>
          <p:cNvSpPr/>
          <p:nvPr/>
        </p:nvSpPr>
        <p:spPr>
          <a:xfrm flipV="1">
            <a:off x="762120" y="388584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64800" y="5415120"/>
            <a:ext cx="50270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00"/>
                </a:solidFill>
                <a:uFillTx/>
                <a:latin typeface="Courier New"/>
              </a:rPr>
              <a:t>??????</a:t>
            </a:r>
            <a:r>
              <a:rPr b="1" lang="en-GB" sz="1800" spc="-1" strike="noStrike">
                <a:solidFill>
                  <a:srgbClr val="990000"/>
                </a:solidFill>
                <a:latin typeface="Courier New"/>
              </a:rPr>
              <a:t> – but adds 4 to the s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7132680" y="914400"/>
            <a:ext cx="170460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urier New"/>
              </a:rPr>
              <a:t>G&lt;-&gt;W = 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urier New"/>
              </a:rPr>
              <a:t>G&lt;-&gt;G = +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5251680" y="5318280"/>
            <a:ext cx="170460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urier New"/>
              </a:rPr>
              <a:t>A&lt;-&gt;C = 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urier New"/>
              </a:rPr>
              <a:t>A&lt;-&gt;A = +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1635840" y="30492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Insertions/Deletions =&gt;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1565640" y="304920"/>
            <a:ext cx="5484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The need for penalising GA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3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" fill="hold"/>
                                        <p:tgtEl>
                                          <p:spTgt spid="3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900"/>
                            </p:stCondLst>
                            <p:childTnLst>
                              <p:par>
                                <p:cTn id="8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3" name=""/>
          <p:cNvGrpSpPr/>
          <p:nvPr/>
        </p:nvGrpSpPr>
        <p:grpSpPr>
          <a:xfrm>
            <a:off x="3657600" y="1905120"/>
            <a:ext cx="4952520" cy="761760"/>
            <a:chOff x="3657600" y="1905120"/>
            <a:chExt cx="4952520" cy="761760"/>
          </a:xfrm>
        </p:grpSpPr>
        <p:sp>
          <p:nvSpPr>
            <p:cNvPr id="3334" name=""/>
            <p:cNvSpPr/>
            <p:nvPr/>
          </p:nvSpPr>
          <p:spPr>
            <a:xfrm>
              <a:off x="3657600" y="1905120"/>
              <a:ext cx="4952520" cy="0"/>
            </a:xfrm>
            <a:prstGeom prst="line">
              <a:avLst/>
            </a:prstGeom>
            <a:ln w="12708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657600" y="2666880"/>
              <a:ext cx="4952520" cy="0"/>
            </a:xfrm>
            <a:prstGeom prst="line">
              <a:avLst/>
            </a:prstGeom>
            <a:ln w="12708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6" name=""/>
          <p:cNvSpPr/>
          <p:nvPr/>
        </p:nvSpPr>
        <p:spPr>
          <a:xfrm>
            <a:off x="3657600" y="2666880"/>
            <a:ext cx="350532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5257800" y="1905120"/>
            <a:ext cx="33526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3657600" y="1905120"/>
            <a:ext cx="3808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8381880" y="2666880"/>
            <a:ext cx="2286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1357200" y="295200"/>
            <a:ext cx="60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LOCAL and GLOBAL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of pairwise 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151920" y="1905120"/>
            <a:ext cx="29239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Courier New"/>
              </a:rPr>
              <a:t>LOCAL 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4038480" y="1905120"/>
            <a:ext cx="1219320" cy="0"/>
          </a:xfrm>
          <a:prstGeom prst="line">
            <a:avLst/>
          </a:prstGeom>
          <a:ln w="127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7162920" y="2666880"/>
            <a:ext cx="1218960" cy="0"/>
          </a:xfrm>
          <a:prstGeom prst="line">
            <a:avLst/>
          </a:prstGeom>
          <a:ln w="127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5257800" y="1905120"/>
            <a:ext cx="190512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5257800" y="1905120"/>
            <a:ext cx="182880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6" name=""/>
          <p:cNvGrpSpPr/>
          <p:nvPr/>
        </p:nvGrpSpPr>
        <p:grpSpPr>
          <a:xfrm>
            <a:off x="4038480" y="1981080"/>
            <a:ext cx="4343400" cy="609840"/>
            <a:chOff x="4038480" y="1981080"/>
            <a:chExt cx="4343400" cy="609840"/>
          </a:xfrm>
        </p:grpSpPr>
        <p:sp>
          <p:nvSpPr>
            <p:cNvPr id="3347" name=""/>
            <p:cNvSpPr/>
            <p:nvPr/>
          </p:nvSpPr>
          <p:spPr>
            <a:xfrm>
              <a:off x="4038480" y="1981080"/>
              <a:ext cx="3048120" cy="609840"/>
            </a:xfrm>
            <a:prstGeom prst="line">
              <a:avLst/>
            </a:prstGeom>
            <a:ln cap="rnd" w="25560">
              <a:solidFill>
                <a:srgbClr val="99cc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334120" y="1981080"/>
              <a:ext cx="3047760" cy="609840"/>
            </a:xfrm>
            <a:prstGeom prst="line">
              <a:avLst/>
            </a:prstGeom>
            <a:ln cap="rnd" w="25560">
              <a:solidFill>
                <a:srgbClr val="99cc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9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6" dur="500"/>
                                        <p:tgtEl>
                                          <p:spTgt spid="3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1" name=""/>
          <p:cNvGrpSpPr/>
          <p:nvPr/>
        </p:nvGrpSpPr>
        <p:grpSpPr>
          <a:xfrm>
            <a:off x="3657600" y="1905120"/>
            <a:ext cx="4952880" cy="761760"/>
            <a:chOff x="3657600" y="1905120"/>
            <a:chExt cx="4952880" cy="761760"/>
          </a:xfrm>
        </p:grpSpPr>
        <p:sp>
          <p:nvSpPr>
            <p:cNvPr id="3352" name=""/>
            <p:cNvSpPr/>
            <p:nvPr/>
          </p:nvSpPr>
          <p:spPr>
            <a:xfrm>
              <a:off x="3657600" y="1905120"/>
              <a:ext cx="4952880" cy="0"/>
            </a:xfrm>
            <a:prstGeom prst="line">
              <a:avLst/>
            </a:prstGeom>
            <a:ln w="12708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3657600" y="2666880"/>
              <a:ext cx="4952880" cy="0"/>
            </a:xfrm>
            <a:prstGeom prst="line">
              <a:avLst/>
            </a:prstGeom>
            <a:ln w="12708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4" name=""/>
          <p:cNvSpPr/>
          <p:nvPr/>
        </p:nvSpPr>
        <p:spPr>
          <a:xfrm>
            <a:off x="1361880" y="295200"/>
            <a:ext cx="60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LOCAL and GLOBAL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00"/>
                </a:solidFill>
                <a:uFillTx/>
                <a:latin typeface="Courier New"/>
              </a:rPr>
              <a:t>of pairwise 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151920" y="1905120"/>
            <a:ext cx="29239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Courier New"/>
              </a:rPr>
              <a:t>LOCAL 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4038480" y="1905120"/>
            <a:ext cx="1219320" cy="0"/>
          </a:xfrm>
          <a:prstGeom prst="line">
            <a:avLst/>
          </a:prstGeom>
          <a:ln w="127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7086600" y="2666880"/>
            <a:ext cx="1295280" cy="0"/>
          </a:xfrm>
          <a:prstGeom prst="line">
            <a:avLst/>
          </a:prstGeom>
          <a:ln w="127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5257800" y="1905120"/>
            <a:ext cx="190512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5257800" y="1905120"/>
            <a:ext cx="182880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0" name=""/>
          <p:cNvGrpSpPr/>
          <p:nvPr/>
        </p:nvGrpSpPr>
        <p:grpSpPr>
          <a:xfrm>
            <a:off x="4038480" y="1981080"/>
            <a:ext cx="4343400" cy="609840"/>
            <a:chOff x="4038480" y="1981080"/>
            <a:chExt cx="4343400" cy="609840"/>
          </a:xfrm>
        </p:grpSpPr>
        <p:sp>
          <p:nvSpPr>
            <p:cNvPr id="3361" name=""/>
            <p:cNvSpPr/>
            <p:nvPr/>
          </p:nvSpPr>
          <p:spPr>
            <a:xfrm>
              <a:off x="4038480" y="1981080"/>
              <a:ext cx="3048120" cy="609840"/>
            </a:xfrm>
            <a:prstGeom prst="line">
              <a:avLst/>
            </a:prstGeom>
            <a:ln cap="rnd" w="25560">
              <a:solidFill>
                <a:srgbClr val="99cc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5334120" y="1981080"/>
              <a:ext cx="3047760" cy="609840"/>
            </a:xfrm>
            <a:prstGeom prst="line">
              <a:avLst/>
            </a:prstGeom>
            <a:ln cap="rnd" w="25560">
              <a:solidFill>
                <a:srgbClr val="99cc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3" name=""/>
          <p:cNvSpPr/>
          <p:nvPr/>
        </p:nvSpPr>
        <p:spPr>
          <a:xfrm>
            <a:off x="7162920" y="1905120"/>
            <a:ext cx="1218960" cy="0"/>
          </a:xfrm>
          <a:prstGeom prst="line">
            <a:avLst/>
          </a:prstGeom>
          <a:ln w="127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5181480" y="2666880"/>
            <a:ext cx="1219320" cy="0"/>
          </a:xfrm>
          <a:prstGeom prst="line">
            <a:avLst/>
          </a:prstGeom>
          <a:ln w="127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5" name=""/>
          <p:cNvGrpSpPr/>
          <p:nvPr/>
        </p:nvGrpSpPr>
        <p:grpSpPr>
          <a:xfrm>
            <a:off x="5181480" y="1981080"/>
            <a:ext cx="3200040" cy="609840"/>
            <a:chOff x="5181480" y="1981080"/>
            <a:chExt cx="3200040" cy="609840"/>
          </a:xfrm>
        </p:grpSpPr>
        <p:sp>
          <p:nvSpPr>
            <p:cNvPr id="3366" name=""/>
            <p:cNvSpPr/>
            <p:nvPr/>
          </p:nvSpPr>
          <p:spPr>
            <a:xfrm flipH="1">
              <a:off x="6400440" y="1981080"/>
              <a:ext cx="1981080" cy="609840"/>
            </a:xfrm>
            <a:prstGeom prst="line">
              <a:avLst/>
            </a:prstGeom>
            <a:ln cap="rnd" w="25560">
              <a:solidFill>
                <a:srgbClr val="99cc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H="1">
              <a:off x="5181480" y="1981080"/>
              <a:ext cx="1981440" cy="609840"/>
            </a:xfrm>
            <a:prstGeom prst="line">
              <a:avLst/>
            </a:prstGeom>
            <a:ln cap="rnd" w="25560">
              <a:solidFill>
                <a:srgbClr val="99cc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8" name=""/>
          <p:cNvSpPr/>
          <p:nvPr/>
        </p:nvSpPr>
        <p:spPr>
          <a:xfrm>
            <a:off x="3657600" y="2666880"/>
            <a:ext cx="15238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8381880" y="2666880"/>
            <a:ext cx="2286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8381880" y="1905120"/>
            <a:ext cx="2286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6400800" y="2666880"/>
            <a:ext cx="6858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5257800" y="1905120"/>
            <a:ext cx="190512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3657600" y="1905120"/>
            <a:ext cx="3808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149400" y="2428920"/>
            <a:ext cx="31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Courier New"/>
              </a:rPr>
              <a:t>GCG    : </a:t>
            </a:r>
            <a:r>
              <a:rPr b="1" lang="en-GB" sz="1800" spc="-1" strike="noStrike">
                <a:solidFill>
                  <a:srgbClr val="990000"/>
                </a:solidFill>
                <a:latin typeface="Courier New"/>
              </a:rPr>
              <a:t>best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Courier New"/>
              </a:rPr>
              <a:t>Staden : </a:t>
            </a:r>
            <a:r>
              <a:rPr b="1" lang="en-GB" sz="1800" spc="-1" strike="noStrike">
                <a:solidFill>
                  <a:srgbClr val="990000"/>
                </a:solidFill>
                <a:latin typeface="Courier New"/>
              </a:rPr>
              <a:t>sp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Courier New"/>
              </a:rPr>
              <a:t>Emboss</a:t>
            </a:r>
            <a:r>
              <a:rPr b="1" lang="en-GB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990000"/>
                </a:solidFill>
                <a:latin typeface="Courier New"/>
              </a:rPr>
              <a:t>: water/mat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151560" y="4006800"/>
            <a:ext cx="31068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Courier New"/>
              </a:rPr>
              <a:t>GLOBAL 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6" name=""/>
          <p:cNvGrpSpPr/>
          <p:nvPr/>
        </p:nvGrpSpPr>
        <p:grpSpPr>
          <a:xfrm>
            <a:off x="3657600" y="4083120"/>
            <a:ext cx="4952880" cy="761760"/>
            <a:chOff x="3657600" y="4083120"/>
            <a:chExt cx="4952880" cy="761760"/>
          </a:xfrm>
        </p:grpSpPr>
        <p:sp>
          <p:nvSpPr>
            <p:cNvPr id="3377" name=""/>
            <p:cNvSpPr/>
            <p:nvPr/>
          </p:nvSpPr>
          <p:spPr>
            <a:xfrm>
              <a:off x="3657600" y="4083120"/>
              <a:ext cx="4952880" cy="0"/>
            </a:xfrm>
            <a:prstGeom prst="line">
              <a:avLst/>
            </a:prstGeom>
            <a:ln w="12708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3657600" y="4844880"/>
              <a:ext cx="4952880" cy="0"/>
            </a:xfrm>
            <a:prstGeom prst="line">
              <a:avLst/>
            </a:prstGeom>
            <a:ln w="12708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9" name=""/>
          <p:cNvGrpSpPr/>
          <p:nvPr/>
        </p:nvGrpSpPr>
        <p:grpSpPr>
          <a:xfrm>
            <a:off x="3657600" y="4159080"/>
            <a:ext cx="4952880" cy="609840"/>
            <a:chOff x="3657600" y="4159080"/>
            <a:chExt cx="4952880" cy="609840"/>
          </a:xfrm>
        </p:grpSpPr>
        <p:sp>
          <p:nvSpPr>
            <p:cNvPr id="3380" name=""/>
            <p:cNvSpPr/>
            <p:nvPr/>
          </p:nvSpPr>
          <p:spPr>
            <a:xfrm>
              <a:off x="3657600" y="4159080"/>
              <a:ext cx="0" cy="609840"/>
            </a:xfrm>
            <a:prstGeom prst="line">
              <a:avLst/>
            </a:prstGeom>
            <a:ln cap="rnd" w="25560">
              <a:solidFill>
                <a:srgbClr val="99cc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8610480" y="4159080"/>
              <a:ext cx="0" cy="609840"/>
            </a:xfrm>
            <a:prstGeom prst="line">
              <a:avLst/>
            </a:prstGeom>
            <a:ln cap="rnd" w="25560">
              <a:solidFill>
                <a:srgbClr val="99cc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2" name=""/>
          <p:cNvSpPr/>
          <p:nvPr/>
        </p:nvSpPr>
        <p:spPr>
          <a:xfrm>
            <a:off x="146160" y="446400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Courier New"/>
              </a:rPr>
              <a:t>GCG    : </a:t>
            </a:r>
            <a:r>
              <a:rPr b="1" lang="en-GB" sz="1800" spc="-1" strike="noStrike">
                <a:solidFill>
                  <a:srgbClr val="990000"/>
                </a:solidFill>
                <a:latin typeface="Courier New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Courier New"/>
              </a:rPr>
              <a:t>Staden : </a:t>
            </a:r>
            <a:r>
              <a:rPr b="1" lang="en-GB" sz="1800" spc="-1" strike="noStrike">
                <a:solidFill>
                  <a:srgbClr val="990000"/>
                </a:solidFill>
                <a:latin typeface="Courier New"/>
              </a:rPr>
              <a:t>sp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Courier New"/>
              </a:rPr>
              <a:t>Emboss</a:t>
            </a:r>
            <a:r>
              <a:rPr b="1" lang="en-GB" sz="1800" spc="-1" strike="noStrike">
                <a:solidFill>
                  <a:srgbClr val="990000"/>
                </a:solidFill>
                <a:latin typeface="Courier New"/>
              </a:rPr>
              <a:t> : needle/stret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4" dur="500"/>
                                        <p:tgtEl>
                                          <p:spTgt spid="3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3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3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"/>
          <p:cNvSpPr/>
          <p:nvPr/>
        </p:nvSpPr>
        <p:spPr>
          <a:xfrm>
            <a:off x="2100600" y="2325600"/>
            <a:ext cx="532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 u="sng">
                <a:solidFill>
                  <a:srgbClr val="ff3300"/>
                </a:solidFill>
                <a:uFillTx/>
                <a:latin typeface="Monotype Corsiva"/>
              </a:rPr>
              <a:t>The End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3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3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3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3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3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819520"/>
            <a:ext cx="6858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76920" y="3505320"/>
            <a:ext cx="6764400" cy="685800"/>
            <a:chOff x="376920" y="3505320"/>
            <a:chExt cx="6764400" cy="685800"/>
          </a:xfrm>
        </p:grpSpPr>
        <p:sp>
          <p:nvSpPr>
            <p:cNvPr id="92" name=""/>
            <p:cNvSpPr/>
            <p:nvPr/>
          </p:nvSpPr>
          <p:spPr>
            <a:xfrm>
              <a:off x="376920" y="3505320"/>
              <a:ext cx="67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BEERNALEDLAGERDFWGALSTOUTWRARWA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3400" y="4191120"/>
              <a:ext cx="914400" cy="0"/>
            </a:xfrm>
            <a:prstGeom prst="line">
              <a:avLst/>
            </a:prstGeom>
            <a:ln w="5079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5800" y="41911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00200" y="4191120"/>
              <a:ext cx="68580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62320" y="41911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4191120"/>
              <a:ext cx="914400" cy="0"/>
            </a:xfrm>
            <a:prstGeom prst="line">
              <a:avLst/>
            </a:prstGeom>
            <a:ln w="5079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48680" y="2590920"/>
            <a:ext cx="6398640" cy="764280"/>
            <a:chOff x="148680" y="2590920"/>
            <a:chExt cx="6398640" cy="764280"/>
          </a:xfrm>
        </p:grpSpPr>
        <p:sp>
          <p:nvSpPr>
            <p:cNvPr id="99" name=""/>
            <p:cNvSpPr/>
            <p:nvPr/>
          </p:nvSpPr>
          <p:spPr>
            <a:xfrm>
              <a:off x="4114800" y="2590920"/>
              <a:ext cx="914400" cy="0"/>
            </a:xfrm>
            <a:prstGeom prst="line">
              <a:avLst/>
            </a:prstGeom>
            <a:ln w="5079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" y="25909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2480" y="2590920"/>
              <a:ext cx="68580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66880" y="25909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2590920"/>
              <a:ext cx="914400" cy="0"/>
            </a:xfrm>
            <a:prstGeom prst="line">
              <a:avLst/>
            </a:prstGeom>
            <a:ln w="5079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8680" y="2895480"/>
              <a:ext cx="63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CBEERGYALEDILAGERAFGSTOUTFAWA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52480" y="2819520"/>
            <a:ext cx="6858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29560" y="3505320"/>
            <a:ext cx="6764400" cy="685800"/>
            <a:chOff x="529560" y="3505320"/>
            <a:chExt cx="6764400" cy="685800"/>
          </a:xfrm>
        </p:grpSpPr>
        <p:sp>
          <p:nvSpPr>
            <p:cNvPr id="109" name=""/>
            <p:cNvSpPr/>
            <p:nvPr/>
          </p:nvSpPr>
          <p:spPr>
            <a:xfrm>
              <a:off x="529560" y="3505320"/>
              <a:ext cx="67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BEERNALEDLAGERDFWGALSTOUTWRARWA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95680" y="4191120"/>
              <a:ext cx="914400" cy="0"/>
            </a:xfrm>
            <a:prstGeom prst="line">
              <a:avLst/>
            </a:prstGeom>
            <a:ln w="5079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8080" y="41911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52480" y="4191120"/>
              <a:ext cx="68580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600" y="41911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5880" y="4191120"/>
              <a:ext cx="914400" cy="0"/>
            </a:xfrm>
            <a:prstGeom prst="line">
              <a:avLst/>
            </a:prstGeom>
            <a:ln w="5079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48680" y="2590920"/>
            <a:ext cx="6398640" cy="764280"/>
            <a:chOff x="148680" y="2590920"/>
            <a:chExt cx="6398640" cy="764280"/>
          </a:xfrm>
        </p:grpSpPr>
        <p:sp>
          <p:nvSpPr>
            <p:cNvPr id="116" name=""/>
            <p:cNvSpPr/>
            <p:nvPr/>
          </p:nvSpPr>
          <p:spPr>
            <a:xfrm>
              <a:off x="4114800" y="2590920"/>
              <a:ext cx="914400" cy="0"/>
            </a:xfrm>
            <a:prstGeom prst="line">
              <a:avLst/>
            </a:prstGeom>
            <a:ln w="5079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800" y="25909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52480" y="2590920"/>
              <a:ext cx="68580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25909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0080" y="2590920"/>
              <a:ext cx="914400" cy="0"/>
            </a:xfrm>
            <a:prstGeom prst="line">
              <a:avLst/>
            </a:prstGeom>
            <a:ln w="5079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8680" y="2895480"/>
              <a:ext cx="63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CBEERGYALEDILAGERAFGSTOUTFAWA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666880" y="2819520"/>
            <a:ext cx="9144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07400" y="3505320"/>
            <a:ext cx="6764400" cy="685800"/>
            <a:chOff x="707400" y="3505320"/>
            <a:chExt cx="6764400" cy="685800"/>
          </a:xfrm>
        </p:grpSpPr>
        <p:sp>
          <p:nvSpPr>
            <p:cNvPr id="126" name=""/>
            <p:cNvSpPr/>
            <p:nvPr/>
          </p:nvSpPr>
          <p:spPr>
            <a:xfrm>
              <a:off x="707400" y="3505320"/>
              <a:ext cx="67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BEERNALEDLAGERDFWGALSTOUTWRARWA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73520" y="4191120"/>
              <a:ext cx="914400" cy="0"/>
            </a:xfrm>
            <a:prstGeom prst="line">
              <a:avLst/>
            </a:prstGeom>
            <a:ln w="5079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15920" y="41911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30320" y="4191120"/>
              <a:ext cx="68580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66880" y="41911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73720" y="4191120"/>
              <a:ext cx="914400" cy="0"/>
            </a:xfrm>
            <a:prstGeom prst="line">
              <a:avLst/>
            </a:prstGeom>
            <a:ln w="5079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48680" y="2590920"/>
            <a:ext cx="6398640" cy="764280"/>
            <a:chOff x="148680" y="2590920"/>
            <a:chExt cx="6398640" cy="764280"/>
          </a:xfrm>
        </p:grpSpPr>
        <p:sp>
          <p:nvSpPr>
            <p:cNvPr id="133" name=""/>
            <p:cNvSpPr/>
            <p:nvPr/>
          </p:nvSpPr>
          <p:spPr>
            <a:xfrm>
              <a:off x="4114800" y="2590920"/>
              <a:ext cx="914400" cy="0"/>
            </a:xfrm>
            <a:prstGeom prst="line">
              <a:avLst/>
            </a:prstGeom>
            <a:ln w="5079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25909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52480" y="2590920"/>
              <a:ext cx="68580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66880" y="25909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0080" y="2590920"/>
              <a:ext cx="914400" cy="0"/>
            </a:xfrm>
            <a:prstGeom prst="line">
              <a:avLst/>
            </a:prstGeom>
            <a:ln w="5079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8680" y="2895480"/>
              <a:ext cx="63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CBEERGYALEDILAGERAFGSTOUTFAWA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8520" y="2819520"/>
            <a:ext cx="9144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08840" y="3505320"/>
            <a:ext cx="6764400" cy="685800"/>
            <a:chOff x="708840" y="3505320"/>
            <a:chExt cx="6764400" cy="685800"/>
          </a:xfrm>
        </p:grpSpPr>
        <p:sp>
          <p:nvSpPr>
            <p:cNvPr id="143" name=""/>
            <p:cNvSpPr/>
            <p:nvPr/>
          </p:nvSpPr>
          <p:spPr>
            <a:xfrm>
              <a:off x="708840" y="3505320"/>
              <a:ext cx="67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BEERNALEDLAGERDFWGALSTOUTWRARWA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75320" y="4191120"/>
              <a:ext cx="914400" cy="0"/>
            </a:xfrm>
            <a:prstGeom prst="line">
              <a:avLst/>
            </a:prstGeom>
            <a:ln w="5079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7720" y="41911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32120" y="4191120"/>
              <a:ext cx="68580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93880" y="41911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49960" y="4191120"/>
              <a:ext cx="939960" cy="0"/>
            </a:xfrm>
            <a:prstGeom prst="line">
              <a:avLst/>
            </a:prstGeom>
            <a:ln w="5079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987120" y="2590920"/>
            <a:ext cx="6398640" cy="764280"/>
            <a:chOff x="987120" y="2590920"/>
            <a:chExt cx="6398640" cy="764280"/>
          </a:xfrm>
        </p:grpSpPr>
        <p:sp>
          <p:nvSpPr>
            <p:cNvPr id="150" name=""/>
            <p:cNvSpPr/>
            <p:nvPr/>
          </p:nvSpPr>
          <p:spPr>
            <a:xfrm>
              <a:off x="4952880" y="2590920"/>
              <a:ext cx="914400" cy="0"/>
            </a:xfrm>
            <a:prstGeom prst="line">
              <a:avLst/>
            </a:prstGeom>
            <a:ln w="5079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3880" y="2590920"/>
              <a:ext cx="685800" cy="0"/>
            </a:xfrm>
            <a:prstGeom prst="line">
              <a:avLst/>
            </a:prstGeom>
            <a:ln w="507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90920" y="2590920"/>
              <a:ext cx="685800" cy="0"/>
            </a:xfrm>
            <a:prstGeom prst="line">
              <a:avLst/>
            </a:prstGeom>
            <a:ln w="5079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2590920"/>
              <a:ext cx="914400" cy="0"/>
            </a:xfrm>
            <a:prstGeom prst="line">
              <a:avLst/>
            </a:prstGeom>
            <a:ln w="5079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48520" y="2590920"/>
              <a:ext cx="914400" cy="0"/>
            </a:xfrm>
            <a:prstGeom prst="line">
              <a:avLst/>
            </a:prstGeom>
            <a:ln w="5079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87120" y="2895480"/>
              <a:ext cx="63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CBEERGYALEDILAGERAFGSTOUTFAWA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695160"/>
            <a:ext cx="8762760" cy="6096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771480"/>
            <a:ext cx="8762760" cy="6019920"/>
            <a:chOff x="304920" y="771480"/>
            <a:chExt cx="8762760" cy="6019920"/>
          </a:xfrm>
        </p:grpSpPr>
        <p:sp>
          <p:nvSpPr>
            <p:cNvPr id="160" name=""/>
            <p:cNvSpPr/>
            <p:nvPr/>
          </p:nvSpPr>
          <p:spPr>
            <a:xfrm>
              <a:off x="52992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75664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8332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2552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150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9412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6744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5156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356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198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042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884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7252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306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464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6236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7824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100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5728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7316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4140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9040" y="771480"/>
              <a:ext cx="0" cy="601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920" y="10000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920" y="12286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4920" y="15336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920" y="17622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20797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4920" y="22957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26002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920" y="28288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4920" y="30574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33624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35910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920" y="38959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920" y="41245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920" y="43531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920" y="46576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4920" y="48862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4920" y="51912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4920" y="54198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4920" y="564840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920" y="59533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920" y="618192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920" y="6486480"/>
              <a:ext cx="876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752080" y="466560"/>
            <a:ext cx="275040" cy="6262560"/>
            <a:chOff x="5752080" y="466560"/>
            <a:chExt cx="275040" cy="6262560"/>
          </a:xfrm>
        </p:grpSpPr>
        <p:sp>
          <p:nvSpPr>
            <p:cNvPr id="205" name=""/>
            <p:cNvSpPr/>
            <p:nvPr/>
          </p:nvSpPr>
          <p:spPr>
            <a:xfrm>
              <a:off x="58669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8240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8240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5208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208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5208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8240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5208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5208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8240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5208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5208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5208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5208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5208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40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8240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8240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5208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5208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520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5208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8240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824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138000" y="466560"/>
            <a:ext cx="275040" cy="6262560"/>
            <a:chOff x="6138000" y="466560"/>
            <a:chExt cx="275040" cy="6262560"/>
          </a:xfrm>
        </p:grpSpPr>
        <p:sp>
          <p:nvSpPr>
            <p:cNvPr id="230" name=""/>
            <p:cNvSpPr/>
            <p:nvPr/>
          </p:nvSpPr>
          <p:spPr>
            <a:xfrm>
              <a:off x="625284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6832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6832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6832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6832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68320" y="178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3800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6832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68320" y="255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3800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3800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3800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6832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3800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800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6832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6832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832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3800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3800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3800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6832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6832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6832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523560" y="466560"/>
            <a:ext cx="275040" cy="6262560"/>
            <a:chOff x="6523560" y="466560"/>
            <a:chExt cx="275040" cy="6262560"/>
          </a:xfrm>
        </p:grpSpPr>
        <p:sp>
          <p:nvSpPr>
            <p:cNvPr id="255" name=""/>
            <p:cNvSpPr/>
            <p:nvPr/>
          </p:nvSpPr>
          <p:spPr>
            <a:xfrm>
              <a:off x="66384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5388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2356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5388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5388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2356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2356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5388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53880" y="255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2356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5388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2356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5388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2356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2356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5388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5388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5388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2356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2356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5388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5388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2356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538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909480" y="466560"/>
            <a:ext cx="275040" cy="6262560"/>
            <a:chOff x="6909480" y="466560"/>
            <a:chExt cx="275040" cy="6262560"/>
          </a:xfrm>
        </p:grpSpPr>
        <p:sp>
          <p:nvSpPr>
            <p:cNvPr id="280" name=""/>
            <p:cNvSpPr/>
            <p:nvPr/>
          </p:nvSpPr>
          <p:spPr>
            <a:xfrm>
              <a:off x="70243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0948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80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0948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0948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0948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0948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0948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0948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0948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0948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0948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0948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0948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3980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0948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0948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0948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0948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800" y="5416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094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0948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0948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398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295040" y="466560"/>
            <a:ext cx="275040" cy="6262560"/>
            <a:chOff x="7295040" y="466560"/>
            <a:chExt cx="275040" cy="6262560"/>
          </a:xfrm>
        </p:grpSpPr>
        <p:sp>
          <p:nvSpPr>
            <p:cNvPr id="305" name=""/>
            <p:cNvSpPr/>
            <p:nvPr/>
          </p:nvSpPr>
          <p:spPr>
            <a:xfrm>
              <a:off x="740988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9504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9504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9504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9504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25360" y="178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9504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9504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9504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2536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9504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9504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9504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2536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2536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9504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9504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9504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25360" y="5155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9504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9504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9504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9504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2536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680960" y="466560"/>
            <a:ext cx="275040" cy="6262560"/>
            <a:chOff x="7680960" y="466560"/>
            <a:chExt cx="275040" cy="6262560"/>
          </a:xfrm>
        </p:grpSpPr>
        <p:sp>
          <p:nvSpPr>
            <p:cNvPr id="330" name=""/>
            <p:cNvSpPr/>
            <p:nvPr/>
          </p:nvSpPr>
          <p:spPr>
            <a:xfrm>
              <a:off x="77961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1164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8096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8096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8096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8096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8096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8096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8096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8096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1164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164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8096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1164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8096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8096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8096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81164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8096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8096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1164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8096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8096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116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8066520" y="466560"/>
            <a:ext cx="275040" cy="6262560"/>
            <a:chOff x="8066520" y="466560"/>
            <a:chExt cx="275040" cy="6262560"/>
          </a:xfrm>
        </p:grpSpPr>
        <p:sp>
          <p:nvSpPr>
            <p:cNvPr id="355" name=""/>
            <p:cNvSpPr/>
            <p:nvPr/>
          </p:nvSpPr>
          <p:spPr>
            <a:xfrm>
              <a:off x="81817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9720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06652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9720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9720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6652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19720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9720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97200" y="255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9720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6652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6652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9720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6652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6652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6652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9720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9720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6652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6652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06652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19720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9720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972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8452440" y="466560"/>
            <a:ext cx="275040" cy="6262560"/>
            <a:chOff x="8452440" y="466560"/>
            <a:chExt cx="275040" cy="6262560"/>
          </a:xfrm>
        </p:grpSpPr>
        <p:sp>
          <p:nvSpPr>
            <p:cNvPr id="380" name=""/>
            <p:cNvSpPr/>
            <p:nvPr/>
          </p:nvSpPr>
          <p:spPr>
            <a:xfrm>
              <a:off x="856764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58312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58312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8312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58312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45244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58312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58312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5244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8312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45244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45244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8312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45244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45244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58312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58312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45244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5244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45244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45244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58312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58312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58312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8846640" y="466560"/>
            <a:ext cx="153360" cy="6262560"/>
            <a:chOff x="8846640" y="466560"/>
            <a:chExt cx="153360" cy="6262560"/>
          </a:xfrm>
        </p:grpSpPr>
        <p:sp>
          <p:nvSpPr>
            <p:cNvPr id="405" name=""/>
            <p:cNvSpPr/>
            <p:nvPr/>
          </p:nvSpPr>
          <p:spPr>
            <a:xfrm>
              <a:off x="884664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62120" y="741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86212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86212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86212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862120" y="178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86212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86212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862120" y="255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86212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86212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86212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86212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86212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86212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86212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86212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86212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862120" y="5155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862120" y="5416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86212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86212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86212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86212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040" y="727200"/>
            <a:ext cx="153000" cy="6018480"/>
            <a:chOff x="68040" y="727200"/>
            <a:chExt cx="153000" cy="6018480"/>
          </a:xfrm>
        </p:grpSpPr>
        <p:sp>
          <p:nvSpPr>
            <p:cNvPr id="430" name=""/>
            <p:cNvSpPr/>
            <p:nvPr/>
          </p:nvSpPr>
          <p:spPr>
            <a:xfrm>
              <a:off x="68040" y="7272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040" y="9874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040" y="12463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040" y="15066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040" y="17668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040" y="20257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040" y="22860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040" y="25448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040" y="28051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040" y="30654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040" y="33242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040" y="35845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040" y="38433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040" y="41036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040" y="43639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040" y="46227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040" y="48830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040" y="51418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040" y="56624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040" y="59212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040" y="6181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040" y="64404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040" y="54021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49920" y="466560"/>
            <a:ext cx="275040" cy="6262560"/>
            <a:chOff x="349920" y="466560"/>
            <a:chExt cx="275040" cy="6262560"/>
          </a:xfrm>
        </p:grpSpPr>
        <p:sp>
          <p:nvSpPr>
            <p:cNvPr id="454" name=""/>
            <p:cNvSpPr/>
            <p:nvPr/>
          </p:nvSpPr>
          <p:spPr>
            <a:xfrm>
              <a:off x="4651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060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992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060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060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992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60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060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60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9920" y="282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992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4992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9920" y="3605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992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992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0600" y="4381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060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060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992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060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060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060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06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992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121400" y="466560"/>
            <a:ext cx="275040" cy="6262560"/>
            <a:chOff x="1121400" y="466560"/>
            <a:chExt cx="275040" cy="6262560"/>
          </a:xfrm>
        </p:grpSpPr>
        <p:sp>
          <p:nvSpPr>
            <p:cNvPr id="479" name=""/>
            <p:cNvSpPr/>
            <p:nvPr/>
          </p:nvSpPr>
          <p:spPr>
            <a:xfrm>
              <a:off x="12366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5208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52080" y="10141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5208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5208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2140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5208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208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5208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5208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2140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2140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5208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2140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2140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12140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5208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208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2140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12140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5208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5208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520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2140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506960" y="466560"/>
            <a:ext cx="275040" cy="6262560"/>
            <a:chOff x="1506960" y="466560"/>
            <a:chExt cx="275040" cy="6262560"/>
          </a:xfrm>
        </p:grpSpPr>
        <p:sp>
          <p:nvSpPr>
            <p:cNvPr id="504" name=""/>
            <p:cNvSpPr/>
            <p:nvPr/>
          </p:nvSpPr>
          <p:spPr>
            <a:xfrm>
              <a:off x="16221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3764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0696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3764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3764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0696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3764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3764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3764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3764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0696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0696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3764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0696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0696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0696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3764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3764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0696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0696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3764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3764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6376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0696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892880" y="466560"/>
            <a:ext cx="275040" cy="6262560"/>
            <a:chOff x="1892880" y="466560"/>
            <a:chExt cx="275040" cy="6262560"/>
          </a:xfrm>
        </p:grpSpPr>
        <p:sp>
          <p:nvSpPr>
            <p:cNvPr id="529" name=""/>
            <p:cNvSpPr/>
            <p:nvPr/>
          </p:nvSpPr>
          <p:spPr>
            <a:xfrm>
              <a:off x="195228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92880" y="755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89288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92880" y="1272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92880" y="1531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9288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92880" y="205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92880" y="2309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892880" y="2568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92880" y="282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9288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9288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92880" y="3605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9288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9288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89288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6164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92880" y="489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9288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928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9288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892880" y="6194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616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61640" y="54180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278800" y="466560"/>
            <a:ext cx="275040" cy="6262560"/>
            <a:chOff x="2278800" y="466560"/>
            <a:chExt cx="275040" cy="6262560"/>
          </a:xfrm>
        </p:grpSpPr>
        <p:sp>
          <p:nvSpPr>
            <p:cNvPr id="554" name=""/>
            <p:cNvSpPr/>
            <p:nvPr/>
          </p:nvSpPr>
          <p:spPr>
            <a:xfrm>
              <a:off x="239364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0912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09120" y="10141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0912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40912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7880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40912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40912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78800" y="2568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40912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7880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7880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0912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880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880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09120" y="4381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8800" y="464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78800" y="489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880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7880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40912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0912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0912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7880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664360" y="466560"/>
            <a:ext cx="275040" cy="6262560"/>
            <a:chOff x="2664360" y="466560"/>
            <a:chExt cx="275040" cy="6262560"/>
          </a:xfrm>
        </p:grpSpPr>
        <p:sp>
          <p:nvSpPr>
            <p:cNvPr id="579" name=""/>
            <p:cNvSpPr/>
            <p:nvPr/>
          </p:nvSpPr>
          <p:spPr>
            <a:xfrm>
              <a:off x="27792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9468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6436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79468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79468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6436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9468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9468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9468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9468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6436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6436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9468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66436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6436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6436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9468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9468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66436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66436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9468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9468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946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66436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3049920" y="466560"/>
            <a:ext cx="275040" cy="6262560"/>
            <a:chOff x="3049920" y="466560"/>
            <a:chExt cx="275040" cy="6262560"/>
          </a:xfrm>
        </p:grpSpPr>
        <p:sp>
          <p:nvSpPr>
            <p:cNvPr id="604" name=""/>
            <p:cNvSpPr/>
            <p:nvPr/>
          </p:nvSpPr>
          <p:spPr>
            <a:xfrm>
              <a:off x="31647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80240" y="755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049920" y="10141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8024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180240" y="1531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04992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9920" y="205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180240" y="2309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80240" y="25682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049920" y="282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4992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04992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049920" y="3605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049920" y="3863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04992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049920" y="4381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8024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180240" y="48988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049920" y="515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4992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18024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49920" y="6194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02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04992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435840" y="466560"/>
            <a:ext cx="275040" cy="6262560"/>
            <a:chOff x="3435840" y="466560"/>
            <a:chExt cx="275040" cy="6262560"/>
          </a:xfrm>
        </p:grpSpPr>
        <p:sp>
          <p:nvSpPr>
            <p:cNvPr id="629" name=""/>
            <p:cNvSpPr/>
            <p:nvPr/>
          </p:nvSpPr>
          <p:spPr>
            <a:xfrm>
              <a:off x="355068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584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6616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6616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6616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43584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6616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6616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3584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6616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3584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43584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6616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35840" y="3857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43584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566160" y="4377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43584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3584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43584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3584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56616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6616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56616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566160" y="5416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821760" y="466560"/>
            <a:ext cx="275040" cy="6262560"/>
            <a:chOff x="3821760" y="466560"/>
            <a:chExt cx="275040" cy="6262560"/>
          </a:xfrm>
        </p:grpSpPr>
        <p:sp>
          <p:nvSpPr>
            <p:cNvPr id="654" name=""/>
            <p:cNvSpPr/>
            <p:nvPr/>
          </p:nvSpPr>
          <p:spPr>
            <a:xfrm>
              <a:off x="39366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82176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2176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2176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2176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2176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2176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2176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2176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2176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5208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2176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2176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5208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5208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2176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2176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95208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2176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5208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2176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2176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520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2176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4207320" y="466560"/>
            <a:ext cx="275040" cy="6262560"/>
            <a:chOff x="4207320" y="466560"/>
            <a:chExt cx="275040" cy="6262560"/>
          </a:xfrm>
        </p:grpSpPr>
        <p:sp>
          <p:nvSpPr>
            <p:cNvPr id="679" name=""/>
            <p:cNvSpPr/>
            <p:nvPr/>
          </p:nvSpPr>
          <p:spPr>
            <a:xfrm>
              <a:off x="43221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0732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0732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0732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0732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20732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0732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0732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0732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0732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764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3764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3764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3764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3764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0732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20732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20732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20732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3764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20732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20732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376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20732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594680" y="466560"/>
            <a:ext cx="275040" cy="6262560"/>
            <a:chOff x="4594680" y="466560"/>
            <a:chExt cx="275040" cy="6262560"/>
          </a:xfrm>
        </p:grpSpPr>
        <p:sp>
          <p:nvSpPr>
            <p:cNvPr id="704" name=""/>
            <p:cNvSpPr/>
            <p:nvPr/>
          </p:nvSpPr>
          <p:spPr>
            <a:xfrm>
              <a:off x="470952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9468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2500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725000" y="12603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25000" y="15206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9468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25000" y="203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725000" y="230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9468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725000" y="281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94680" y="3079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94680" y="3338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2500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2500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94680" y="4117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9468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25000" y="46368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25000" y="489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9468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946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25000" y="5935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25000" y="61956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2500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9468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4980600" y="466560"/>
            <a:ext cx="275040" cy="6262560"/>
            <a:chOff x="4980600" y="466560"/>
            <a:chExt cx="275040" cy="6262560"/>
          </a:xfrm>
        </p:grpSpPr>
        <p:sp>
          <p:nvSpPr>
            <p:cNvPr id="729" name=""/>
            <p:cNvSpPr/>
            <p:nvPr/>
          </p:nvSpPr>
          <p:spPr>
            <a:xfrm>
              <a:off x="509580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8060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11280" y="1001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8060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8060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8060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8060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8060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8060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8060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11128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11128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11280" y="35985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11128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1128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8060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8060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8060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80600" y="515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11280" y="5676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98060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98060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1128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980600" y="5416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5366520" y="466560"/>
            <a:ext cx="275040" cy="6262560"/>
            <a:chOff x="5366520" y="466560"/>
            <a:chExt cx="275040" cy="6262560"/>
          </a:xfrm>
        </p:grpSpPr>
        <p:sp>
          <p:nvSpPr>
            <p:cNvPr id="754" name=""/>
            <p:cNvSpPr/>
            <p:nvPr/>
          </p:nvSpPr>
          <p:spPr>
            <a:xfrm>
              <a:off x="536652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6652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66520" y="61956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9684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48136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66520" y="741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366520" y="10015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366520" y="1260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366520" y="15206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66520" y="1780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366520" y="20397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66520" y="23000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66520" y="255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66520" y="28191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96840" y="3079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496840" y="3338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366520" y="3598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496840" y="3857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96840" y="4117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66520" y="43779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366520" y="4636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366520" y="48970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96840" y="5155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96840" y="5416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2966760" y="15228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990000"/>
                </a:solidFill>
                <a:uFillTx/>
                <a:latin typeface="Courier New"/>
              </a:rPr>
              <a:t>Dayhoff PAM 250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735480" y="466560"/>
            <a:ext cx="275040" cy="6262560"/>
            <a:chOff x="735480" y="466560"/>
            <a:chExt cx="275040" cy="6262560"/>
          </a:xfrm>
        </p:grpSpPr>
        <p:sp>
          <p:nvSpPr>
            <p:cNvPr id="780" name=""/>
            <p:cNvSpPr/>
            <p:nvPr/>
          </p:nvSpPr>
          <p:spPr>
            <a:xfrm>
              <a:off x="850680" y="466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5480" y="755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66160" y="10141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66160" y="12729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5480" y="15318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5480" y="17902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66160" y="2050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5480" y="2309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5480" y="2568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66160" y="28270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5480" y="3085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35480" y="3344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66160" y="3605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66160" y="3863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35480" y="41223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66160" y="43812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66160" y="46400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35480" y="48988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66160" y="5159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35480" y="56764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5480" y="59353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66160" y="6194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66160" y="645444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35480" y="54180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>
            <a:hlinkClick r:id="" action="ppaction://hlinkshowjump?jump=nextslide"/>
          </p:cNvPr>
          <p:cNvSpPr/>
          <p:nvPr/>
        </p:nvSpPr>
        <p:spPr>
          <a:xfrm>
            <a:off x="380880" y="0"/>
            <a:ext cx="381240" cy="3841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4120"/>
              <a:gd name="textAreaBottom" fmla="*/ 359640 h 384120"/>
            </a:gdLst>
            <a:ahLst/>
            <a:rect l="textAreaLeft" t="textAreaTop" r="textAreaRight" b="textAreaBottom"/>
            <a:pathLst>
              <a:path w="21600" h="21763">
                <a:moveTo>
                  <a:pt x="0" y="0"/>
                </a:moveTo>
                <a:lnTo>
                  <a:pt x="21600" y="0"/>
                </a:lnTo>
                <a:lnTo>
                  <a:pt x="21600" y="21763"/>
                </a:lnTo>
                <a:lnTo>
                  <a:pt x="0" y="21763"/>
                </a:lnTo>
                <a:close/>
              </a:path>
              <a:path fill="lightenLess" w="21600" h="21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63">
                <a:moveTo>
                  <a:pt x="21600" y="0"/>
                </a:moveTo>
                <a:lnTo>
                  <a:pt x="21600" y="21763"/>
                </a:lnTo>
                <a:lnTo>
                  <a:pt x="20200" y="20363"/>
                </a:lnTo>
                <a:lnTo>
                  <a:pt x="20200" y="1400"/>
                </a:lnTo>
                <a:close/>
              </a:path>
              <a:path fill="darkenLess" w="21600" h="21763">
                <a:moveTo>
                  <a:pt x="21600" y="21763"/>
                </a:moveTo>
                <a:lnTo>
                  <a:pt x="0" y="21763"/>
                </a:lnTo>
                <a:lnTo>
                  <a:pt x="1400" y="20363"/>
                </a:lnTo>
                <a:lnTo>
                  <a:pt x="20200" y="20363"/>
                </a:lnTo>
                <a:close/>
              </a:path>
              <a:path fill="lighten" w="21600" h="21763">
                <a:moveTo>
                  <a:pt x="0" y="21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63"/>
                </a:lnTo>
                <a:close/>
              </a:path>
              <a:path fill="darken" w="21600" h="21763">
                <a:moveTo>
                  <a:pt x="3794" y="3875"/>
                </a:moveTo>
                <a:lnTo>
                  <a:pt x="17806" y="10882"/>
                </a:lnTo>
                <a:lnTo>
                  <a:pt x="3794" y="17888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52280" y="5153040"/>
            <a:ext cx="3429000" cy="1557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Courier New"/>
              </a:rPr>
              <a:t>The PAM matrices are computed from aligned families of prote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76320" y="1066680"/>
            <a:ext cx="9063360" cy="5479560"/>
            <a:chOff x="76320" y="1066680"/>
            <a:chExt cx="9063360" cy="5479560"/>
          </a:xfrm>
        </p:grpSpPr>
        <p:grpSp>
          <p:nvGrpSpPr>
            <p:cNvPr id="808" name=""/>
            <p:cNvGrpSpPr/>
            <p:nvPr/>
          </p:nvGrpSpPr>
          <p:grpSpPr>
            <a:xfrm>
              <a:off x="76320" y="1066680"/>
              <a:ext cx="8991360" cy="5105520"/>
              <a:chOff x="76320" y="1066680"/>
              <a:chExt cx="8991360" cy="5105520"/>
            </a:xfrm>
          </p:grpSpPr>
          <p:grpSp>
            <p:nvGrpSpPr>
              <p:cNvPr id="809" name=""/>
              <p:cNvGrpSpPr/>
              <p:nvPr/>
            </p:nvGrpSpPr>
            <p:grpSpPr>
              <a:xfrm>
                <a:off x="4648320" y="1143000"/>
                <a:ext cx="4419360" cy="4952880"/>
                <a:chOff x="4648320" y="1143000"/>
                <a:chExt cx="4419360" cy="495288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4648320" y="11430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4648320" y="14335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648320" y="172548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4648320" y="20160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648320" y="23083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4648320" y="259884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648320" y="28908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648320" y="31813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4648320" y="347328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648320" y="37638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648320" y="40561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648320" y="434664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648320" y="463860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4648320" y="49291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648320" y="522144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4648320" y="551196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648320" y="580392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4648320" y="6095880"/>
                  <a:ext cx="4419360" cy="0"/>
                </a:xfrm>
                <a:prstGeom prst="line">
                  <a:avLst/>
                </a:prstGeom>
                <a:ln w="442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76320" y="1066680"/>
                <a:ext cx="4572000" cy="5105520"/>
                <a:chOff x="76320" y="1066680"/>
                <a:chExt cx="4572000" cy="510552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76320" y="3619440"/>
                  <a:ext cx="4419720" cy="0"/>
                </a:xfrm>
                <a:prstGeom prst="line">
                  <a:avLst/>
                </a:prstGeom>
                <a:ln w="442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4419720" y="1066680"/>
                  <a:ext cx="228600" cy="5105520"/>
                </a:xfrm>
                <a:custGeom>
                  <a:avLst/>
                  <a:gdLst>
                    <a:gd name="textAreaLeft" fmla="*/ 146160 w 228600"/>
                    <a:gd name="textAreaRight" fmla="*/ 228960 w 228600"/>
                    <a:gd name="textAreaTop" fmla="*/ 132840 h 5105520"/>
                    <a:gd name="textAreaBottom" fmla="*/ 4972680 h 5105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31680">
                  <a:solidFill>
                    <a:srgbClr val="ffcc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1" name=""/>
            <p:cNvSpPr/>
            <p:nvPr/>
          </p:nvSpPr>
          <p:spPr>
            <a:xfrm>
              <a:off x="856440" y="3648240"/>
              <a:ext cx="31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Original prote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569840" y="6086520"/>
              <a:ext cx="45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990000"/>
                  </a:solidFill>
                  <a:latin typeface="Courier New"/>
                </a:rPr>
                <a:t>Aligned current protei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0:17:38Z</dcterms:created>
  <dc:creator>lmullan</dc:creator>
  <dc:description/>
  <dc:language>en-US</dc:language>
  <cp:lastModifiedBy>David Judge</cp:lastModifiedBy>
  <dcterms:modified xsi:type="dcterms:W3CDTF">2005-03-10T16:14:17Z</dcterms:modified>
  <cp:revision>10</cp:revision>
  <dc:subject/>
  <dc:title>PowerPoint Presentation</dc:title>
</cp:coreProperties>
</file>